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7.jpeg" ContentType="image/jpeg"/>
  <Override PartName="/ppt/media/image31.wmf" ContentType="image/x-wmf"/>
  <Override PartName="/ppt/media/image27.png" ContentType="image/png"/>
  <Override PartName="/ppt/media/image30.wmf" ContentType="image/x-wmf"/>
  <Override PartName="/ppt/media/image23.png" ContentType="image/png"/>
  <Override PartName="/ppt/media/image22.png" ContentType="image/png"/>
  <Override PartName="/ppt/media/image24.jpeg" ContentType="image/jpeg"/>
  <Override PartName="/ppt/media/image18.png" ContentType="image/png"/>
  <Override PartName="/ppt/media/image20.png" ContentType="image/png"/>
  <Override PartName="/ppt/media/image29.wmf" ContentType="image/x-wmf"/>
  <Override PartName="/ppt/media/image11.png" ContentType="image/png"/>
  <Override PartName="/ppt/media/image32.wmf" ContentType="image/x-wmf"/>
  <Override PartName="/ppt/media/image12.png" ContentType="image/png"/>
  <Override PartName="/ppt/media/image33.wmf" ContentType="image/x-wmf"/>
  <Override PartName="/ppt/media/image13.png" ContentType="image/png"/>
  <Override PartName="/ppt/media/image34.wmf" ContentType="image/x-wmf"/>
  <Override PartName="/ppt/media/image14.png" ContentType="image/png"/>
  <Override PartName="/ppt/media/image35.wmf" ContentType="image/x-wmf"/>
  <Override PartName="/ppt/media/image15.png" ContentType="image/png"/>
  <Override PartName="/ppt/media/image8.png" ContentType="image/png"/>
  <Override PartName="/ppt/media/image36.wmf" ContentType="image/x-wmf"/>
  <Override PartName="/ppt/media/image16.png" ContentType="image/png"/>
  <Override PartName="/ppt/media/image9.png" ContentType="image/png"/>
  <Override PartName="/ppt/media/image37.wmf" ContentType="image/x-wmf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0.png" ContentType="image/png"/>
  <Override PartName="/ppt/media/image1.jpeg" ContentType="image/jpeg"/>
  <Override PartName="/ppt/media/image19.png" ContentType="image/png"/>
  <Override PartName="/ppt/media/image21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2C4C-AA41-4714-9B9E-7759CFC4A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D393-11F5-4B86-BED8-FE2AAC2B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96E381-CC15-4547-8968-32C377F4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7EDD7-6947-42A4-82F7-E52A6DC3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00C27-AF34-453B-8381-FD18A7B6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4EA10-9350-411B-BB0F-EDE0B461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69A33-FB9F-4F11-A6C1-74681802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74681C-894F-4179-8897-85025AD5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88051-9626-4897-82B3-72571D5B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C5C08-79A9-4340-85D4-96A9491C6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D8D242-ACDF-4968-BD8B-FFA3E805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09D678-C50E-4408-AFCF-5CDDE740A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FE08-360A-4430-A20E-9F4AFFC6F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DD53A-A3A9-4B0C-A7DC-61B52E4D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2379FD-308F-4C17-AA05-F0F3F472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7609B-0E2E-4102-B5D9-2497F1A7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44CFFE-CD94-47DB-B62E-8A0D4D2E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184EB9-3603-4A78-84FC-A20A141F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4DF67B-CDE5-4E4C-88E6-3DB0C9C5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0E72F8-8FE2-4509-B974-365DDEA3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49526-8F6B-4B4C-B6B8-9D5D81F1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C4E2AA-4703-4EDF-A39F-C53C7324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F7E54-DE0B-4F0B-9D64-1DE2364F1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9178-C96F-45C0-8446-EE46643D2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688BAD-5157-4C60-999A-7F9994C69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506D0-24DA-4FCB-901F-2D41FD4B9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27407-C78D-41E8-8614-7E8A5C52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09CB7-C06B-4564-9AB3-00B64CB2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B4F52-01CE-48CA-97EE-736F7A09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8BD80-3872-42C6-8BFB-E8609DDC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2DB70-C04B-4D39-B3CC-4F4AA432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ED966-59C4-42CA-80B7-50786E50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5B26A-FCFF-4D55-965D-E549ED51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76456-C774-4775-80A0-41A9491E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DFDD-8608-4133-B38F-01F39DBFB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ADF39-8AB2-4640-BC6A-E1A03756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1E42C-7509-4211-8B2D-09FC1A57C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72DC81-9C0B-44AE-8CE4-7B1DE60AE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1FD6E1-4B3D-4CC4-AA4E-C0960629E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C2CEF-44BC-4BCB-A048-F32F8DC4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C99EA8-99B4-47C1-901D-F1811823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4DFA6E-D6B0-4856-A817-EE66C860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C78591-9270-4C51-8407-E8661390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B2AE87-0969-4DD7-B9C5-5F0D8830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FB8131-FD8F-48AD-A313-34AD4A00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8DBD-2041-427C-AD35-62909649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B0A34B-E7B2-457D-82E0-6CC1E772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80EDD2-E14A-4246-892C-A61B26AF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6A415A-AFFF-4EE9-A505-7ACC51D3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859148-4DB0-4E9B-A683-DBB94998F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963E6B-F490-412A-B162-7609FBD27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CEED07-BFB1-4745-9E0F-E2495A3B1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E64AD8-3463-455E-8590-E9646DE1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151504-1EED-4259-B922-A6E2A682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7F33F8-6DE9-4547-8F77-5B9061E7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4C7A64-C27B-46F9-A64A-857AE8D4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0C76-E8A2-46E5-919A-E33DDCF6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05AC1C-DD88-4474-931C-4D42D56D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945093-46B8-4319-B2EB-B8175DE2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C4AF07-6013-4D0F-AEC5-340D102B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CE4EA0-33FF-4FA0-B363-1F081958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C68923-CFC6-4C8E-9EE4-DD1960A7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9BE2B5-E164-425A-AB60-A5FE853D3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121ACF-CC7A-4C97-AB41-522EE35CE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93E492-2BBD-4165-8A9F-ABAE509CB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DB728D-4D94-4F4C-B104-8848C6CF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955ABA-3C39-47AE-90FB-7324B4F8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E511-606C-4893-AA68-F90F1AAE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9C4BD7-786E-4A3F-8D9A-0AF4A2B5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F93C66-8E6B-4210-9B1A-874E4E12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237E07-0DEF-4C77-8570-5AFD2FBD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FF3883-4459-42F8-9EEB-7939C0E7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1D1198-984C-47CA-ADAB-E34BF355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935C25-20BB-4EBE-A4D7-BDE7C902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82D88A-5B4D-4652-ACDB-D1312CB9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1520A7-8484-43CC-BF4C-450AB0011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25B0E6-D641-43D7-B8FD-B484543E0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751688-CCDC-4B8B-9B36-22412F34C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0582-3803-403F-852D-62182F6B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A3CA7B-3A6A-44C4-9AB4-0F5B4A89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A03486-6EE9-4A14-8E0D-224DA20A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5E09D5-AD5C-4685-AD69-1F5BFEE1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488AF9-AA54-4C5A-B87D-A02CD170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EB28D0-0C17-43CA-A88E-45CAAFFE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44EA35-83A4-4963-B36B-B95BF766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18E8F0-ABD2-4A19-B118-7B3FDC38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C28387-9662-43F5-9D44-6FD8AA40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8D0824-BBB0-44A7-966D-B66DF893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3F07E7-D71A-4DBA-911D-FA36FE49E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DA43-C554-49CF-B038-86A1F857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D77EEA-7A15-4FCD-8861-E4FB3223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5A11-A689-46E1-BD14-42651400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A6CD-47DE-4581-BB76-11885D2A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CE28-6C08-430B-B175-84406A4F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182E-D29C-45DD-A10B-3AD74298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67A4-F199-45E2-AAB1-8AEBDD56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85F5-2A74-49E3-B881-5B969AFB5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7B50-F537-4407-A3E5-86BA90328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06B5D-EAD4-4B99-834C-6861DD29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D929A-AF2F-4881-A8C9-B65C7991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81671-562A-467E-A966-474059BB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3077D-1FE1-47FE-89F8-A8051721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CCE99-5E22-495E-B7A5-D5734841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C46A-8D4F-46C6-83A0-BD4C54B6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F1DD3-F51F-4411-AA92-14CD8242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E2D1E-1BE7-406C-A8D9-CDEC1221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85823-2D47-4446-A522-6147F79C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74AF2-093E-4012-B73F-10847818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35478-74FD-4995-8B25-94CC73AC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D4F33-ED95-43AA-B3E3-675AF0FBD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AC3CB-62BD-4D67-A750-A23C6A4C7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C4F81-D905-428E-A5EC-BA337B1A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A0E1B-2971-4171-97BB-0B8CCA0D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BCECB-A187-4016-A07E-568AF314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C353-B455-4072-8AEF-F4FB0E99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682ED-EDB1-4485-8733-2443FB76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A1A12-0EF7-4A24-AF92-140920DA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2BF28-C81F-43E7-BCD7-927FCAC2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67B81-DA24-4623-8037-5C2A47D1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922C7-DEFC-4722-9EF9-3CF2D96C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52C6C-154D-4900-A6FD-9D383A42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EB642-840E-4CF6-B8FF-B293E411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3FEE1-FAE3-4D5C-A37C-B95CB8C76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5EFE4-3D51-4A47-822E-C5AEFC780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72596-4760-4497-9D7F-3846E5806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59A8-1AFA-4261-9104-7D8BD38E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405D0-928C-4AEF-9AA7-D0B3B419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F5DF7-D8CF-478C-85F1-0086E2E8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85452-5372-43B8-8156-4A0607F9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0DC8B-40FF-401D-9E02-64069DBC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2212F-87C6-4408-ACBB-350B7A9D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5328B-6A87-42C3-B53D-D0163AB1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A836F-C735-418A-8531-889D69F0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0C201-EC85-4943-B009-C81D9985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8B284-1189-4C79-9021-8EBD9663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D0455-813C-43D1-B877-3D87C78B8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42D5-5FB0-4DC2-8C73-2C48C476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66508-9203-4715-9017-2EF40C533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B7359-56F0-4253-A3BD-B95B336A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DBFE2-9D84-46A0-9946-25D66BE2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B9F1A-61B4-41B0-A6FC-B599B3C9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51645-9303-4F03-A9A5-285CC71E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8199E-1DDF-47BC-A3E4-A74F182B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8BBC3-C94E-48DF-9994-E9AB7857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0A9F3-48F2-4EDE-A0DD-4DEA3AD7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BDB56-70E6-4756-A798-30AF64D1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73AAE-23E4-42B6-8678-2E8B6935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C9E2-C354-4C4F-B121-0157247A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3CD0B-B550-4001-9AB2-656BE873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C97B3-0834-425A-9C10-E226D4C1E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AF6D4-5D13-467C-B018-57F6EAEDB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DE79E-9E8E-48A5-8B99-6AACBBAFC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494FB-5916-49F6-A3F5-8E73B0B2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CA2FC-A253-4DE2-B837-11821013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37982-F151-4804-9B90-5D6190C3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7A811-00AD-4A17-A155-2FA26F2F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7A14D-D5B4-40B1-BE53-816F92DA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EC5C0-9D43-44D3-BFE8-B9F319C6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A7C6-BF59-45CB-8977-65327AD4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572C0-BDDC-4A62-84C6-9144A750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32133-2FAF-4347-905C-1260A1CF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FC6A0-7725-4047-8F88-005AA7D4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B4F95-559C-4654-A7A6-D3995ADF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DF57F-A664-4BD5-B33E-55227D795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6ABDD-D665-4E4C-A308-BAF8285B0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8BA10-9EBF-4295-9D13-5A1A85CF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52EB6-46BB-4F56-BB14-F51B8B66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91277-065F-4185-B9DD-7E95E4D1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D7A4D-BB4E-4CBB-8097-63809D7C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97E2-C8CA-4813-BDC4-D12AA2B8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E05A6-B6C6-4181-A399-C787858F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DB38B-AA1F-48BA-82B9-170D83E8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8D195-4545-4CE1-A601-EBB41F71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73E45-3292-496D-AFF6-0525F7EE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1A707-A642-4B0E-82F0-25925184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4EEA9-CB9F-4246-9760-C7CAEB4D8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31258-86B5-4F50-9126-E4725509E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7DDE7-76E8-41DB-90F9-FCA7E28E5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AFDB1-27E3-4E71-9008-5110D03B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CEA0F-D2BB-4EEB-B3E8-4591BB44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3171-533F-4C75-BBC4-6D08089973E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50C2-B4F2-44F6-9305-8DFF63EF8E4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0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13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D3E7-FDD8-4204-ABF7-D7FB80B021B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6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884D-4415-4BC1-BF54-A49B64B5605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E113-16D4-4A06-890A-3A8EAE740A9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50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5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5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6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E066-7D5F-4897-903D-49D6DC4952B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0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0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0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7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1418-3BDF-49AD-B2A2-CC69C4B537A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0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E722-5217-427A-9756-37E91DD0E3F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1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85E2-4481-4CF8-A04A-57EFACD9F0A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2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36EA-3973-40A0-8B59-6CC45738A44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3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E5A3-678C-4607-9A59-B6FBF6A71D0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F486-2F14-4415-8D3F-4AB249B9F2B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1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5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EAA6-85AF-4863-B76A-7851386FD73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60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6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66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5A0E-7B16-4381-9EB0-06E5D4169E4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1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1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1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17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0F66-C313-48BC-A23C-4A1F9CEEFC0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8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TextBox 2"/>
          <p:cNvSpPr/>
          <p:nvPr/>
        </p:nvSpPr>
        <p:spPr>
          <a:xfrm>
            <a:off x="395280" y="126828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2017/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4"/>
          <p:cNvSpPr/>
          <p:nvPr/>
        </p:nvSpPr>
        <p:spPr>
          <a:xfrm>
            <a:off x="539640" y="2997360"/>
            <a:ext cx="79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налитичка хемија (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04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наеста неде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к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. др Марија Д. Живковић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Picture 2" descr=""/>
          <p:cNvPicPr/>
          <p:nvPr/>
        </p:nvPicPr>
        <p:blipFill>
          <a:blip r:embed="rId1"/>
          <a:stretch/>
        </p:blipFill>
        <p:spPr>
          <a:xfrm>
            <a:off x="2771640" y="1268280"/>
            <a:ext cx="3089520" cy="2659320"/>
          </a:xfrm>
          <a:prstGeom prst="rect">
            <a:avLst/>
          </a:prstGeom>
          <a:ln w="0">
            <a:noFill/>
          </a:ln>
        </p:spPr>
      </p:pic>
      <p:sp>
        <p:nvSpPr>
          <p:cNvPr id="791" name="Rectangle 2"/>
          <p:cNvSpPr/>
          <p:nvPr/>
        </p:nvSpPr>
        <p:spPr>
          <a:xfrm>
            <a:off x="182520" y="4297320"/>
            <a:ext cx="841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мањим презасићењима брзина нуклеације је релативно мала, па је и број насталих клица мали – хетерогена нуклеациј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3"/>
          <p:cNvSpPr/>
          <p:nvPr/>
        </p:nvSpPr>
        <p:spPr>
          <a:xfrm>
            <a:off x="182520" y="5303880"/>
            <a:ext cx="864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ећим презасићењима крива има оштри раст и број насталих нуклеуса је велики– хомогена нуклеациј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1"/>
          <p:cNvSpPr/>
          <p:nvPr/>
        </p:nvSpPr>
        <p:spPr>
          <a:xfrm>
            <a:off x="182520" y="1844640"/>
            <a:ext cx="867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ина раста кристала зависи од презасићењ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ице талога не расту подједнако на свим површинама, па се ретко добијају геометријски правилни криста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ижим презасићењима кристали расту на неким од својих површина (добијају се плочице или штапић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2"/>
          <p:cNvSpPr/>
          <p:nvPr/>
        </p:nvSpPr>
        <p:spPr>
          <a:xfrm>
            <a:off x="3405600" y="1138320"/>
            <a:ext cx="24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т крист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1"/>
          <p:cNvSpPr/>
          <p:nvPr/>
        </p:nvSpPr>
        <p:spPr>
          <a:xfrm>
            <a:off x="182520" y="3940200"/>
            <a:ext cx="861048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ишим презасићењима, кристал расте на угловима и на ивицама (неправилни и разгранати кристали; као пахуљица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јако високим презасићењима граде се аморфни талози (немају кристалну структуру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е честица или мањи агрегати се спајају у веће агрегате (агрегација) који нису стабилни и теже да се преуреде у правилну кристалну решетку (орјентациј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1"/>
          <p:cNvSpPr/>
          <p:nvPr/>
        </p:nvSpPr>
        <p:spPr>
          <a:xfrm>
            <a:off x="182520" y="2349360"/>
            <a:ext cx="64818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ељно је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бијање талога крупнијих честиц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аложење из разблажених раствора (Q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i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аложење у топлим растворима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2"/>
          <p:cNvSpPr/>
          <p:nvPr/>
        </p:nvSpPr>
        <p:spPr>
          <a:xfrm>
            <a:off x="182520" y="4149720"/>
            <a:ext cx="792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а растворљивост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ша кристализа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8" name="Straight Arrow Connector 4"/>
          <p:cNvCxnSpPr/>
          <p:nvPr/>
        </p:nvCxnSpPr>
        <p:spPr>
          <a:xfrm>
            <a:off x="2933640" y="4376520"/>
            <a:ext cx="72144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799" name="Rectangle 5"/>
          <p:cNvSpPr/>
          <p:nvPr/>
        </p:nvSpPr>
        <p:spPr>
          <a:xfrm>
            <a:off x="914400" y="5229360"/>
            <a:ext cx="21607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x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x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Box 6"/>
          <p:cNvSpPr/>
          <p:nvPr/>
        </p:nvSpPr>
        <p:spPr>
          <a:xfrm>
            <a:off x="914400" y="5943600"/>
            <a:ext cx="216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 сулфид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8"/>
          <p:cNvSpPr/>
          <p:nvPr/>
        </p:nvSpPr>
        <p:spPr>
          <a:xfrm>
            <a:off x="3243240" y="5484960"/>
            <a:ext cx="5043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а растворљивост –колоидни талоз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ight Brace 9"/>
          <p:cNvSpPr/>
          <p:nvPr/>
        </p:nvSpPr>
        <p:spPr>
          <a:xfrm>
            <a:off x="2786040" y="5222880"/>
            <a:ext cx="360360" cy="108108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1081080"/>
              <a:gd name="textAreaBottom" fmla="*/ 1071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2"/>
          <p:cNvSpPr/>
          <p:nvPr/>
        </p:nvSpPr>
        <p:spPr>
          <a:xfrm>
            <a:off x="1852560" y="1344600"/>
            <a:ext cx="14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и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јент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3"/>
          <p:cNvSpPr/>
          <p:nvPr/>
        </p:nvSpPr>
        <p:spPr>
          <a:xfrm>
            <a:off x="4094280" y="1336680"/>
            <a:ext cx="121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орф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4"/>
          <p:cNvSpPr/>
          <p:nvPr/>
        </p:nvSpPr>
        <p:spPr>
          <a:xfrm>
            <a:off x="6570720" y="1417680"/>
            <a:ext cx="136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стал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ight Arrow 12"/>
          <p:cNvSpPr/>
          <p:nvPr/>
        </p:nvSpPr>
        <p:spPr>
          <a:xfrm>
            <a:off x="3324240" y="1565280"/>
            <a:ext cx="609480" cy="26496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b3e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ight Arrow 13"/>
          <p:cNvSpPr/>
          <p:nvPr/>
        </p:nvSpPr>
        <p:spPr>
          <a:xfrm>
            <a:off x="5332320" y="1589040"/>
            <a:ext cx="1127160" cy="27000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b3e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14"/>
          <p:cNvSpPr/>
          <p:nvPr/>
        </p:nvSpPr>
        <p:spPr>
          <a:xfrm>
            <a:off x="5334840" y="124920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е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182520" y="1303200"/>
            <a:ext cx="15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гациј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16"/>
          <p:cNvSpPr/>
          <p:nvPr/>
        </p:nvSpPr>
        <p:spPr>
          <a:xfrm>
            <a:off x="1532160" y="1457280"/>
            <a:ext cx="33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1"/>
          <p:cNvSpPr/>
          <p:nvPr/>
        </p:nvSpPr>
        <p:spPr>
          <a:xfrm>
            <a:off x="182520" y="219852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а површин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д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рна површина између честица талога и раствора у коме су те честице расподеље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њем величине честица јако се повећава специфична површи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2"/>
          <p:cNvSpPr/>
          <p:nvPr/>
        </p:nvSpPr>
        <p:spPr>
          <a:xfrm>
            <a:off x="198360" y="1646280"/>
            <a:ext cx="294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ецифична површ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3"/>
          <p:cNvSpPr/>
          <p:nvPr/>
        </p:nvSpPr>
        <p:spPr>
          <a:xfrm>
            <a:off x="182520" y="3890880"/>
            <a:ext cx="871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олоидни талози имају велику специфичну површину. Kоличина адсорбованих јона и наелектрисање површине одређују особине колои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4"/>
          <p:cNvSpPr/>
          <p:nvPr/>
        </p:nvSpPr>
        <p:spPr>
          <a:xfrm>
            <a:off x="191880" y="3429000"/>
            <a:ext cx="157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дсорп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5"/>
          <p:cNvSpPr/>
          <p:nvPr/>
        </p:nvSpPr>
        <p:spPr>
          <a:xfrm>
            <a:off x="2886840" y="10904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лоидни тало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3" descr=""/>
          <p:cNvPicPr/>
          <p:nvPr/>
        </p:nvPicPr>
        <p:blipFill>
          <a:blip r:embed="rId1"/>
          <a:srcRect l="26650" t="54926" r="36166" b="13406"/>
          <a:stretch/>
        </p:blipFill>
        <p:spPr>
          <a:xfrm>
            <a:off x="2771640" y="5229360"/>
            <a:ext cx="2646360" cy="1266840"/>
          </a:xfrm>
          <a:prstGeom prst="rect">
            <a:avLst/>
          </a:prstGeom>
          <a:ln w="0">
            <a:noFill/>
          </a:ln>
        </p:spPr>
      </p:pic>
      <p:sp>
        <p:nvSpPr>
          <p:cNvPr id="817" name="Rectangle 8"/>
          <p:cNvSpPr/>
          <p:nvPr/>
        </p:nvSpPr>
        <p:spPr>
          <a:xfrm>
            <a:off x="2662200" y="4829040"/>
            <a:ext cx="360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Cl (s) →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Cl (колоид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1"/>
          <p:cNvSpPr/>
          <p:nvPr/>
        </p:nvSpPr>
        <p:spPr>
          <a:xfrm>
            <a:off x="182520" y="2268360"/>
            <a:ext cx="86774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ири правила, која делују истовремено, утичу на тенденцију колоидног талога да адсорбује један јон пре него друг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нетх-Фајанс-Хахново правило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 концентрације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 наелектрисања јон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 величине јон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2"/>
          <p:cNvSpPr/>
          <p:nvPr/>
        </p:nvSpPr>
        <p:spPr>
          <a:xfrm>
            <a:off x="2178720" y="1224000"/>
            <a:ext cx="480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арни адсорпциони сло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4"/>
          <p:cNvSpPr/>
          <p:nvPr/>
        </p:nvSpPr>
        <p:spPr>
          <a:xfrm>
            <a:off x="274680" y="5049720"/>
            <a:ext cx="570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ат адсорпције је онечишћење талог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3" descr="C:\Users\Maca\Desktop\Untitled10.png"/>
          <p:cNvPicPr/>
          <p:nvPr/>
        </p:nvPicPr>
        <p:blipFill>
          <a:blip r:embed="rId1"/>
          <a:srcRect l="0" t="720" r="0" b="0"/>
          <a:stretch/>
        </p:blipFill>
        <p:spPr>
          <a:xfrm>
            <a:off x="2384280" y="1041480"/>
            <a:ext cx="3962520" cy="4992480"/>
          </a:xfrm>
          <a:prstGeom prst="rect">
            <a:avLst/>
          </a:prstGeom>
          <a:ln w="0">
            <a:noFill/>
          </a:ln>
        </p:spPr>
      </p:pic>
      <p:sp>
        <p:nvSpPr>
          <p:cNvPr id="822" name="Rectangle 1"/>
          <p:cNvSpPr/>
          <p:nvPr/>
        </p:nvSpPr>
        <p:spPr>
          <a:xfrm>
            <a:off x="6035760" y="1666800"/>
            <a:ext cx="213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моген раствор (наелектрисања су избалансира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2"/>
          <p:cNvSpPr/>
          <p:nvPr/>
        </p:nvSpPr>
        <p:spPr>
          <a:xfrm>
            <a:off x="6035760" y="3211560"/>
            <a:ext cx="282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ј контра-јона (дифузан; дебљина зависи од конц. електроли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3"/>
          <p:cNvSpPr/>
          <p:nvPr/>
        </p:nvSpPr>
        <p:spPr>
          <a:xfrm>
            <a:off x="6035760" y="4324320"/>
            <a:ext cx="310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и адсорпциони слој (мала дебљина-адсорпција и десорпција су брз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6035760" y="531828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Cl крист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1693440" y="2708280"/>
            <a:ext cx="7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6"/>
          <p:cNvSpPr/>
          <p:nvPr/>
        </p:nvSpPr>
        <p:spPr>
          <a:xfrm>
            <a:off x="1697400" y="4508640"/>
            <a:ext cx="8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рс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7"/>
          <p:cNvSpPr/>
          <p:nvPr/>
        </p:nvSpPr>
        <p:spPr>
          <a:xfrm>
            <a:off x="92160" y="3586320"/>
            <a:ext cx="131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струки електрични сло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8"/>
          <p:cNvSpPr/>
          <p:nvPr/>
        </p:nvSpPr>
        <p:spPr>
          <a:xfrm>
            <a:off x="1554120" y="5943600"/>
            <a:ext cx="583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матски приказ попречног пресека честиц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Cl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спендоване у раствору сребро-нитра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ight Brace 11"/>
          <p:cNvSpPr/>
          <p:nvPr/>
        </p:nvSpPr>
        <p:spPr>
          <a:xfrm flipH="1">
            <a:off x="1331280" y="3068640"/>
            <a:ext cx="360360" cy="180036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1800360"/>
              <a:gd name="textAreaBottom" fmla="*/ 179100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16200" y="10800"/>
                  <a:pt x="21600" y="10800"/>
                </a:cubicBezTo>
                <a:cubicBezTo>
                  <a:pt x="162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1" name="Straight Arrow Connector 13"/>
          <p:cNvCxnSpPr/>
          <p:nvPr/>
        </p:nvCxnSpPr>
        <p:spPr>
          <a:xfrm>
            <a:off x="5468760" y="2120400"/>
            <a:ext cx="361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2" name="Straight Arrow Connector 14"/>
          <p:cNvCxnSpPr/>
          <p:nvPr/>
        </p:nvCxnSpPr>
        <p:spPr>
          <a:xfrm>
            <a:off x="5455800" y="3655800"/>
            <a:ext cx="359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3" name="Straight Arrow Connector 15"/>
          <p:cNvCxnSpPr/>
          <p:nvPr/>
        </p:nvCxnSpPr>
        <p:spPr>
          <a:xfrm>
            <a:off x="5455800" y="4570200"/>
            <a:ext cx="359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4" name="Straight Arrow Connector 16"/>
          <p:cNvCxnSpPr/>
          <p:nvPr/>
        </p:nvCxnSpPr>
        <p:spPr>
          <a:xfrm>
            <a:off x="5466960" y="5490720"/>
            <a:ext cx="36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Picture 2" descr=""/>
          <p:cNvPicPr/>
          <p:nvPr/>
        </p:nvPicPr>
        <p:blipFill>
          <a:blip r:embed="rId1"/>
          <a:stretch/>
        </p:blipFill>
        <p:spPr>
          <a:xfrm>
            <a:off x="1015920" y="1628640"/>
            <a:ext cx="3960720" cy="3510000"/>
          </a:xfrm>
          <a:prstGeom prst="rect">
            <a:avLst/>
          </a:prstGeom>
          <a:ln w="0">
            <a:noFill/>
          </a:ln>
        </p:spPr>
      </p:pic>
      <p:sp>
        <p:nvSpPr>
          <p:cNvPr id="836" name="Rectangle 2"/>
          <p:cNvSpPr/>
          <p:nvPr/>
        </p:nvSpPr>
        <p:spPr>
          <a:xfrm>
            <a:off x="4976640" y="1628640"/>
            <a:ext cx="156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г AgC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3"/>
          <p:cNvSpPr/>
          <p:nvPr/>
        </p:nvSpPr>
        <p:spPr>
          <a:xfrm>
            <a:off x="5007600" y="3313080"/>
            <a:ext cx="353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и адсорпциони сло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4"/>
          <p:cNvSpPr/>
          <p:nvPr/>
        </p:nvSpPr>
        <p:spPr>
          <a:xfrm>
            <a:off x="4983120" y="4105440"/>
            <a:ext cx="212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ј контра-ј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5"/>
          <p:cNvSpPr/>
          <p:nvPr/>
        </p:nvSpPr>
        <p:spPr>
          <a:xfrm>
            <a:off x="4976640" y="4572000"/>
            <a:ext cx="8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6"/>
          <p:cNvSpPr/>
          <p:nvPr/>
        </p:nvSpPr>
        <p:spPr>
          <a:xfrm>
            <a:off x="1332000" y="5589720"/>
            <a:ext cx="432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Cl(s) → AgCl  (колоид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1"/>
          <p:cNvSpPr/>
          <p:nvPr/>
        </p:nvSpPr>
        <p:spPr>
          <a:xfrm>
            <a:off x="182520" y="2655720"/>
            <a:ext cx="864252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агулација колоид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п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цес спајања колоидних честица у веће честице (агрегате) при чему се гради чврста аморфна маса, која се брзо слеже и која може да се процед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оагулације долази ако се честице довољно приближе, тако да кохезионе силе могу да делују, а неопходно је да се одбојне силе међу честицама сведу на минимум и то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ревањем (смањује се адсорпција, а тиме и наелектрисање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шањем (олакшава приближавање честица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вањем електролита (слој контра-јона се сабиј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2" descr=""/>
          <p:cNvPicPr/>
          <p:nvPr/>
        </p:nvPicPr>
        <p:blipFill>
          <a:blip r:embed="rId1"/>
          <a:stretch/>
        </p:blipFill>
        <p:spPr>
          <a:xfrm>
            <a:off x="3522600" y="1765440"/>
            <a:ext cx="1800360" cy="758520"/>
          </a:xfrm>
          <a:prstGeom prst="rect">
            <a:avLst/>
          </a:prstGeom>
          <a:ln w="0">
            <a:noFill/>
          </a:ln>
        </p:spPr>
      </p:pic>
      <p:sp>
        <p:nvSpPr>
          <p:cNvPr id="843" name="Rectangle 3"/>
          <p:cNvSpPr/>
          <p:nvPr/>
        </p:nvSpPr>
        <p:spPr>
          <a:xfrm>
            <a:off x="2789280" y="1179360"/>
            <a:ext cx="36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агулација коло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1"/>
          <p:cNvSpPr/>
          <p:nvPr/>
        </p:nvSpPr>
        <p:spPr>
          <a:xfrm>
            <a:off x="182520" y="1635120"/>
            <a:ext cx="88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птизација је процес којим се коагулисани колоид преводи у своје почетно дисперзно стање тј. у стање колоидног раствора (супротно коагулациј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2"/>
          <p:cNvSpPr/>
          <p:nvPr/>
        </p:nvSpPr>
        <p:spPr>
          <a:xfrm>
            <a:off x="185760" y="3749760"/>
            <a:ext cx="8640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ептизације долази када се свеже коагулисани талог испира чистом водо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центрација електролита у двоструком слоју се смањује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лој контра-јона се шир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већавају се одбојне силе између честиц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"/>
          <p:cNvSpPr/>
          <p:nvPr/>
        </p:nvSpPr>
        <p:spPr>
          <a:xfrm>
            <a:off x="3364560" y="1004760"/>
            <a:ext cx="22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птиз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4"/>
          <p:cNvSpPr/>
          <p:nvPr/>
        </p:nvSpPr>
        <p:spPr>
          <a:xfrm>
            <a:off x="1332000" y="2811600"/>
            <a:ext cx="576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Cl (колоидан)                               AgCl(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8" name="Straight Arrow Connector 7"/>
          <p:cNvCxnSpPr/>
          <p:nvPr/>
        </p:nvCxnSpPr>
        <p:spPr>
          <a:xfrm>
            <a:off x="3432240" y="2944440"/>
            <a:ext cx="180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9" name="Straight Arrow Connector 8"/>
          <p:cNvCxnSpPr/>
          <p:nvPr/>
        </p:nvCxnSpPr>
        <p:spPr>
          <a:xfrm flipH="1">
            <a:off x="3363120" y="3109680"/>
            <a:ext cx="180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0" name="TextBox 9"/>
          <p:cNvSpPr/>
          <p:nvPr/>
        </p:nvSpPr>
        <p:spPr>
          <a:xfrm>
            <a:off x="3492360" y="2452680"/>
            <a:ext cx="180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агула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10"/>
          <p:cNvSpPr/>
          <p:nvPr/>
        </p:nvSpPr>
        <p:spPr>
          <a:xfrm>
            <a:off x="3492360" y="3171960"/>
            <a:ext cx="180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птиза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1"/>
          <p:cNvSpPr/>
          <p:nvPr/>
        </p:nvSpPr>
        <p:spPr>
          <a:xfrm>
            <a:off x="182520" y="568332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олоидне честице адсорбују и молекуле воде (растварача), што доприноси стабил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2"/>
          <p:cNvSpPr/>
          <p:nvPr/>
        </p:nvSpPr>
        <p:spPr>
          <a:xfrm>
            <a:off x="1446120" y="1136520"/>
            <a:ext cx="621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идрофилни и хидрофобни колои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3"/>
          <p:cNvSpPr/>
          <p:nvPr/>
        </p:nvSpPr>
        <p:spPr>
          <a:xfrm>
            <a:off x="182520" y="247824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козни талози који показују велики афинитет према растварачу - гел (мрежаст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5"/>
          <p:cNvSpPr/>
          <p:nvPr/>
        </p:nvSpPr>
        <p:spPr>
          <a:xfrm>
            <a:off x="182520" y="3429000"/>
            <a:ext cx="871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оагулацију је неопходно загревање и висока концентрација електроли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еланчевине, скроб, желатин, ага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2"/>
          <p:cNvSpPr/>
          <p:nvPr/>
        </p:nvSpPr>
        <p:spPr>
          <a:xfrm>
            <a:off x="182520" y="19209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идрофилни  коло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1"/>
          <p:cNvSpPr/>
          <p:nvPr/>
        </p:nvSpPr>
        <p:spPr>
          <a:xfrm>
            <a:off x="182520" y="2193840"/>
            <a:ext cx="6121440" cy="34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виметриј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 заснива на мерењу масе супстанце која се у току анализе издваја из узорка, било у слободном облику или у облику једињења познатог хемијског саста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од метода таложења одређивана супстанца се додавањем реагенса хемијски таложи из раствора, талог се цеди, испира, суши или жари и ме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2"/>
          <p:cNvSpPr/>
          <p:nvPr/>
        </p:nvSpPr>
        <p:spPr>
          <a:xfrm>
            <a:off x="1554120" y="1279440"/>
            <a:ext cx="59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авиметријске методе анали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Picture 2" descr=""/>
          <p:cNvPicPr/>
          <p:nvPr/>
        </p:nvPicPr>
        <p:blipFill>
          <a:blip r:embed="rId1"/>
          <a:stretch/>
        </p:blipFill>
        <p:spPr>
          <a:xfrm>
            <a:off x="6732720" y="2286000"/>
            <a:ext cx="1904760" cy="2543040"/>
          </a:xfrm>
          <a:prstGeom prst="rect">
            <a:avLst/>
          </a:prstGeom>
          <a:ln w="0">
            <a:noFill/>
          </a:ln>
        </p:spPr>
      </p:pic>
      <p:sp>
        <p:nvSpPr>
          <p:cNvPr id="754" name="Rectangle 4"/>
          <p:cNvSpPr/>
          <p:nvPr/>
        </p:nvSpPr>
        <p:spPr>
          <a:xfrm>
            <a:off x="182520" y="539424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еким случајевима супстанца се одређује испаравањем. Мери се маса испарене супстанце или масе оста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1"/>
          <p:cNvSpPr/>
          <p:nvPr/>
        </p:nvSpPr>
        <p:spPr>
          <a:xfrm>
            <a:off x="182520" y="1906560"/>
            <a:ext cx="858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о привлаче воду (растварач), лако се коагулишу електролитима. Kоагулација је иреверзибилна, а добијени талог је сираст, лако се цеди и садржи мало воде 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2"/>
          <p:cNvSpPr/>
          <p:nvPr/>
        </p:nvSpPr>
        <p:spPr>
          <a:xfrm>
            <a:off x="182520" y="407052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ликатна кисеин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по карактеру хидрофобна, али се понаша као хидрофилни колоид (има особине и једног и другог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3"/>
          <p:cNvSpPr/>
          <p:nvPr/>
        </p:nvSpPr>
        <p:spPr>
          <a:xfrm>
            <a:off x="182520" y="3282840"/>
            <a:ext cx="684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оидни сумпор, злато, халогениди среб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5"/>
          <p:cNvSpPr/>
          <p:nvPr/>
        </p:nvSpPr>
        <p:spPr>
          <a:xfrm>
            <a:off x="190080" y="1371600"/>
            <a:ext cx="30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идрофобни коло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1"/>
          <p:cNvSpPr/>
          <p:nvPr/>
        </p:nvSpPr>
        <p:spPr>
          <a:xfrm>
            <a:off x="182520" y="223344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 својих особина су погоднији  за рад, у поређењу са коагулисаним колоидим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кристала, чистоћа и могућност цеђења зависи од експерименталних услов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2"/>
          <p:cNvSpPr/>
          <p:nvPr/>
        </p:nvSpPr>
        <p:spPr>
          <a:xfrm>
            <a:off x="2797200" y="1268280"/>
            <a:ext cx="312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истални тало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3" name="Picture 2" descr=""/>
          <p:cNvPicPr/>
          <p:nvPr/>
        </p:nvPicPr>
        <p:blipFill>
          <a:blip r:embed="rId1"/>
          <a:stretch/>
        </p:blipFill>
        <p:spPr>
          <a:xfrm>
            <a:off x="6675480" y="5029200"/>
            <a:ext cx="2158920" cy="1620720"/>
          </a:xfrm>
          <a:prstGeom prst="rect">
            <a:avLst/>
          </a:prstGeom>
          <a:ln w="0">
            <a:noFill/>
          </a:ln>
        </p:spPr>
      </p:pic>
      <p:sp>
        <p:nvSpPr>
          <p:cNvPr id="864" name="Rectangle 1"/>
          <p:cNvSpPr/>
          <p:nvPr/>
        </p:nvSpPr>
        <p:spPr>
          <a:xfrm>
            <a:off x="457200" y="3801960"/>
            <a:ext cx="68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аложење се врши из разблажених и топлих раствор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 цеђења је неопходно хлађење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аложни реагенс се додаје лагано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з мешање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1"/>
          <p:cNvSpPr/>
          <p:nvPr/>
        </p:nvSpPr>
        <p:spPr>
          <a:xfrm>
            <a:off x="182520" y="1989000"/>
            <a:ext cx="864252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ложење из хомогених раствор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погоднија метода таложењ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жни регенс се ствара погодном хемијском реакцијом директно у раствору супстанце коју таложимо - не додаје се у раствор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гнута је брза нуклеација због ниске презасићености раство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ност је брже цеђење и мало онечишћење  (оклузија минималн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ак је дужина процеса - од 30 минута до неколико сати уз грејање или кувањ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2"/>
          <p:cNvSpPr/>
          <p:nvPr/>
        </p:nvSpPr>
        <p:spPr>
          <a:xfrm>
            <a:off x="1773360" y="1179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ложење из хомогених раств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1"/>
          <p:cNvSpPr/>
          <p:nvPr/>
        </p:nvSpPr>
        <p:spPr>
          <a:xfrm>
            <a:off x="182520" y="2098800"/>
            <a:ext cx="624672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рло слаба база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већањем температуре раствора хидролизуј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3"/>
          <p:cNvSpPr/>
          <p:nvPr/>
        </p:nvSpPr>
        <p:spPr>
          <a:xfrm>
            <a:off x="182520" y="3699000"/>
            <a:ext cx="86346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оплим, киселим, растворим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 уклања, док амонијак остаје због чега с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раствора постепено повећа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6"/>
          <p:cNvSpPr/>
          <p:nvPr/>
        </p:nvSpPr>
        <p:spPr>
          <a:xfrm>
            <a:off x="6400800" y="2890800"/>
            <a:ext cx="19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90-100 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≈ 9,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7"/>
          <p:cNvSpPr/>
          <p:nvPr/>
        </p:nvSpPr>
        <p:spPr>
          <a:xfrm>
            <a:off x="914400" y="3068640"/>
            <a:ext cx="5040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(N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 →  C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2N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6"/>
          <p:cNvSpPr/>
          <p:nvPr/>
        </p:nvSpPr>
        <p:spPr>
          <a:xfrm>
            <a:off x="182520" y="1006560"/>
            <a:ext cx="85075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бољи пример таложења у хомогеним растворима је таложење 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рбамидом или уреом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(N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Box 7"/>
          <p:cNvSpPr/>
          <p:nvPr/>
        </p:nvSpPr>
        <p:spPr>
          <a:xfrm>
            <a:off x="182520" y="4572000"/>
            <a:ext cx="879012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а примена таложења у хомогеним растворима са уреом је код таложења хидратисаних оксида метала или базних со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њуј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 и приликом издвајања кристалних талога који су растворљиви у киселим срединама (Ca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aCr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при чему се добијају крупнији и чистији кристали него применом амонија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1"/>
          <p:cNvSpPr/>
          <p:nvPr/>
        </p:nvSpPr>
        <p:spPr>
          <a:xfrm>
            <a:off x="182520" y="1712880"/>
            <a:ext cx="8651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старењем талога се подразумевају све иреверзибилне структурне промене које се одвијају у талогу од тренутка његовог настајањ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ђење већих честица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ољшање њихове структуре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ње њиховог онечишћења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гестија је процес старења свеже насталог талога, у додиру са матичним раствором, на повишеној температу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2"/>
          <p:cNvSpPr/>
          <p:nvPr/>
        </p:nvSpPr>
        <p:spPr>
          <a:xfrm>
            <a:off x="2235960" y="1114560"/>
            <a:ext cx="44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рење талога -дигест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1"/>
          <p:cNvSpPr/>
          <p:nvPr/>
        </p:nvSpPr>
        <p:spPr>
          <a:xfrm>
            <a:off x="182520" y="4422600"/>
            <a:ext cx="8893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ристализациј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неправилне честице прелазе у правил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ора рекристализациј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зв.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stwald-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во дозревањ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рађење већих кристала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на рачун мањи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гломерациј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оједине честице деле заједнички слој контра јона –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оследица је цементација (грађење мостова између честиц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дификација талог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рансформација у стабилније, мање растворне обл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имеризациј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морфни талози лагано прелазе у кристалне модифика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2"/>
          <p:cNvSpPr/>
          <p:nvPr/>
        </p:nvSpPr>
        <p:spPr>
          <a:xfrm>
            <a:off x="182520" y="402264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и који се одвијају за време старења талог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1"/>
          <p:cNvSpPr/>
          <p:nvPr/>
        </p:nvSpPr>
        <p:spPr>
          <a:xfrm>
            <a:off x="182520" y="1978200"/>
            <a:ext cx="8879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и кристали имају већу растворљивост, па се мање честице примарног талога растварају, а на њихов рачун расту веће честице које су мање раствор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ако велики кристали расту, у простору око њих је све мање малих криста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им процесом се добијају талози веће чистоћ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2" descr=""/>
          <p:cNvPicPr/>
          <p:nvPr/>
        </p:nvPicPr>
        <p:blipFill>
          <a:blip r:embed="rId1"/>
          <a:stretch/>
        </p:blipFill>
        <p:spPr>
          <a:xfrm>
            <a:off x="2771640" y="4508640"/>
            <a:ext cx="2880000" cy="1309680"/>
          </a:xfrm>
          <a:prstGeom prst="rect">
            <a:avLst/>
          </a:prstGeom>
          <a:ln w="0">
            <a:noFill/>
          </a:ln>
        </p:spPr>
      </p:pic>
      <p:sp>
        <p:nvSpPr>
          <p:cNvPr id="879" name="Rectangle 3"/>
          <p:cNvSpPr/>
          <p:nvPr/>
        </p:nvSpPr>
        <p:spPr>
          <a:xfrm>
            <a:off x="2577600" y="1090440"/>
            <a:ext cx="39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stwald-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во дозревањ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1"/>
          <p:cNvSpPr/>
          <p:nvPr/>
        </p:nvSpPr>
        <p:spPr>
          <a:xfrm>
            <a:off x="2843640" y="1165320"/>
            <a:ext cx="34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нечишћење тал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1" name="Picture 2" descr=""/>
          <p:cNvPicPr/>
          <p:nvPr/>
        </p:nvPicPr>
        <p:blipFill>
          <a:blip r:embed="rId1"/>
          <a:stretch/>
        </p:blipFill>
        <p:spPr>
          <a:xfrm>
            <a:off x="7451640" y="1920960"/>
            <a:ext cx="1405080" cy="1028520"/>
          </a:xfrm>
          <a:prstGeom prst="rect">
            <a:avLst/>
          </a:prstGeom>
          <a:ln w="0">
            <a:noFill/>
          </a:ln>
        </p:spPr>
      </p:pic>
      <p:sp>
        <p:nvSpPr>
          <p:cNvPr id="882" name="TextBox 8"/>
          <p:cNvSpPr/>
          <p:nvPr/>
        </p:nvSpPr>
        <p:spPr>
          <a:xfrm>
            <a:off x="182520" y="2432160"/>
            <a:ext cx="86472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кују се два типа онечишћења талог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копреципитациј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уталожење) - онечишћење у моменту таложењ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тпреципитациј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кнадно таложење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ечишћење после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издвајања талог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1"/>
          <p:cNvSpPr/>
          <p:nvPr/>
        </p:nvSpPr>
        <p:spPr>
          <a:xfrm>
            <a:off x="182520" y="1542960"/>
            <a:ext cx="872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ечишћење супстанцама које су, иначе у датој средини, растворне (захватање примес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2"/>
          <p:cNvSpPr/>
          <p:nvPr/>
        </p:nvSpPr>
        <p:spPr>
          <a:xfrm>
            <a:off x="2882880" y="106200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преципит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1"/>
          <p:cNvSpPr/>
          <p:nvPr/>
        </p:nvSpPr>
        <p:spPr>
          <a:xfrm>
            <a:off x="182520" y="227952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и копреципитације су адсорпција, оклузија и инклузиј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2"/>
          <p:cNvSpPr/>
          <p:nvPr/>
        </p:nvSpPr>
        <p:spPr>
          <a:xfrm>
            <a:off x="182520" y="3243240"/>
            <a:ext cx="853272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 главни облик онечишћења код колоидних талога, због велике специфичне површи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од кристалних талога се може занемари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 се смањити повећањем температуре, таложењем из разблажених раствора, дигестијом, прањем талога и поновним таложењ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ефикасније је поновно таложење: после цеђења, талог се раствори у погодном средству (најчешће у киселинама) и поново талож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од таложења из хомогених раствора адсорпција је јако умање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3"/>
          <p:cNvSpPr/>
          <p:nvPr/>
        </p:nvSpPr>
        <p:spPr>
          <a:xfrm>
            <a:off x="3380760" y="2711520"/>
            <a:ext cx="20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дсорп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1"/>
          <p:cNvSpPr/>
          <p:nvPr/>
        </p:nvSpPr>
        <p:spPr>
          <a:xfrm>
            <a:off x="182520" y="1849320"/>
            <a:ext cx="8642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ечишћење карактеристично за кристалне талог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е када страна супстанца буде ухваћена унутар брзо растућег криста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лудоване честице се нехомогено расподељују у кристалима и представљају ‚‚дефекте кристалне решетке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3"/>
          <p:cNvSpPr/>
          <p:nvPr/>
        </p:nvSpPr>
        <p:spPr>
          <a:xfrm>
            <a:off x="3598560" y="1165320"/>
            <a:ext cx="16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клу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Picture 3" descr=""/>
          <p:cNvPicPr/>
          <p:nvPr/>
        </p:nvPicPr>
        <p:blipFill>
          <a:blip r:embed="rId1"/>
          <a:srcRect l="19562" t="30315" r="22329" b="40157"/>
          <a:stretch/>
        </p:blipFill>
        <p:spPr>
          <a:xfrm>
            <a:off x="3429000" y="4199040"/>
            <a:ext cx="3240000" cy="927000"/>
          </a:xfrm>
          <a:prstGeom prst="rect">
            <a:avLst/>
          </a:prstGeom>
          <a:ln w="0">
            <a:noFill/>
          </a:ln>
        </p:spPr>
      </p:pic>
      <p:sp>
        <p:nvSpPr>
          <p:cNvPr id="891" name="Rectangle 3"/>
          <p:cNvSpPr/>
          <p:nvPr/>
        </p:nvSpPr>
        <p:spPr>
          <a:xfrm>
            <a:off x="2250360" y="4149720"/>
            <a:ext cx="11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клу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2"/>
          <p:cNvSpPr/>
          <p:nvPr/>
        </p:nvSpPr>
        <p:spPr>
          <a:xfrm>
            <a:off x="182520" y="520056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ан облик ‚‚дефекта кристалне решетке” представља механичк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варање нечистоћа – у току раста кристала заостају шупљине које су испуњене матичним раствор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4"/>
          <p:cNvSpPr/>
          <p:nvPr/>
        </p:nvSpPr>
        <p:spPr>
          <a:xfrm>
            <a:off x="182520" y="1268280"/>
            <a:ext cx="896148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 облик оклузије се јавља при адсорпцији у току таложењ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жење сулфата из раствор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ом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четку талог им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јоне као примарни адсорпциони слој, 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јоне као слој контра-јон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5"/>
          <p:cNvSpPr/>
          <p:nvPr/>
        </p:nvSpPr>
        <p:spPr>
          <a:xfrm>
            <a:off x="3428280" y="3108240"/>
            <a:ext cx="25855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S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2N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6"/>
          <p:cNvSpPr/>
          <p:nvPr/>
        </p:nvSpPr>
        <p:spPr>
          <a:xfrm>
            <a:off x="182520" y="3639960"/>
            <a:ext cx="864072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љи додатак реагенса доводи до замен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јона јоним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што доводи до даљег раста кристал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зина раста кристала је велик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 чег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стигну св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јони да се замене, па остају оклудовани у кристал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1"/>
          <p:cNvSpPr/>
          <p:nvPr/>
        </p:nvSpPr>
        <p:spPr>
          <a:xfrm>
            <a:off x="182520" y="5229360"/>
            <a:ext cx="88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лузија не може да се смањи испирањем талога, али може дигестијом и поновним таложењ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од таложења из хомогених раствора практично не долази до оклузиј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1"/>
          <p:cNvSpPr/>
          <p:nvPr/>
        </p:nvSpPr>
        <p:spPr>
          <a:xfrm>
            <a:off x="182520" y="162864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жење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нтитативно (потпуно) када у раствору, изнад талога, заостаје мање од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а који се тало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4932360" y="3789360"/>
            <a:ext cx="2597040" cy="207792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3" descr=""/>
          <p:cNvPicPr/>
          <p:nvPr/>
        </p:nvPicPr>
        <p:blipFill>
          <a:blip r:embed="rId2"/>
          <a:stretch/>
        </p:blipFill>
        <p:spPr>
          <a:xfrm>
            <a:off x="971640" y="3068640"/>
            <a:ext cx="330660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1"/>
          <p:cNvSpPr/>
          <p:nvPr/>
        </p:nvSpPr>
        <p:spPr>
          <a:xfrm>
            <a:off x="182520" y="1989000"/>
            <a:ext cx="889308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арактеристична је за кристалне талог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оморфна инклузиј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рађење мешаних кристала) – копреципитовани јон се због погодне структуре, величине и наелектрисања „уклапа” у кристалну решетку талога – не долази до дефекта решет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2"/>
          <p:cNvSpPr/>
          <p:nvPr/>
        </p:nvSpPr>
        <p:spPr>
          <a:xfrm>
            <a:off x="3527280" y="11937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клу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Box 8"/>
          <p:cNvSpPr/>
          <p:nvPr/>
        </p:nvSpPr>
        <p:spPr>
          <a:xfrm>
            <a:off x="182520" y="3789360"/>
            <a:ext cx="8282160" cy="21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имер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морфн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клузиј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парцијална замен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K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N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r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B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r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 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у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1"/>
          <p:cNvSpPr/>
          <p:nvPr/>
        </p:nvSpPr>
        <p:spPr>
          <a:xfrm>
            <a:off x="182520" y="1371600"/>
            <a:ext cx="8588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изоморфна инклузиј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рађење чврстих раствора) – кристални облик онечишћења се нешто више разликује од кристалног облика талога – нечистоће овог типа се мање мешају са талогом од нечистоћа првог тип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2"/>
          <p:cNvSpPr/>
          <p:nvPr/>
        </p:nvSpPr>
        <p:spPr>
          <a:xfrm>
            <a:off x="182520" y="5303880"/>
            <a:ext cx="864072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ечишћење Ba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 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има је на pH = 1 значајно, а на  pH = 5 минималн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3"/>
          <p:cNvSpPr/>
          <p:nvPr/>
        </p:nvSpPr>
        <p:spPr>
          <a:xfrm>
            <a:off x="182520" y="2743200"/>
            <a:ext cx="82803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ципитација KH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или  N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 Ba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Box 5"/>
          <p:cNvSpPr/>
          <p:nvPr/>
        </p:nvSpPr>
        <p:spPr>
          <a:xfrm>
            <a:off x="182520" y="3565440"/>
            <a:ext cx="8642520" cy="15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а не могу просторно заменити један B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лични радијуси), а како је H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сторно сличан 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лектрична неутралност ће бити сачувана ако сваки пут кад 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 замени B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 и један H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мени један 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1"/>
          <p:cNvSpPr/>
          <p:nvPr/>
        </p:nvSpPr>
        <p:spPr>
          <a:xfrm>
            <a:off x="182520" y="1920960"/>
            <a:ext cx="864252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преципитациј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к онечишћења код кога се нечистоћа, као слабо растворно једињење, издваја после издвајања примарног талог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ложењ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присуству М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, у свеже исталоженом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лази се само мала количина М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а. Ако се талог остави да стоји у матичном раствору на њему се постепено таложи 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C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кнадно таложењ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S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талогу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преципитација се спречава или бар смањује брзим цеђењем главног талога или поновним таложењ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гестија повећава накнадно онечишћење талог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2"/>
          <p:cNvSpPr/>
          <p:nvPr/>
        </p:nvSpPr>
        <p:spPr>
          <a:xfrm>
            <a:off x="2794320" y="1189080"/>
            <a:ext cx="339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тпреципит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3"/>
          <p:cNvSpPr/>
          <p:nvPr/>
        </p:nvSpPr>
        <p:spPr>
          <a:xfrm>
            <a:off x="182520" y="2344680"/>
            <a:ext cx="828216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мултано таложењ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истовремено таложење две супстанце заједничким реагенсом, јер су им растворљивости веома блис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ложење с колектором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квантитативно издвајање супстанце која је присутна у траговима (сама се не таложи) уз велике количине другог талог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4"/>
          <p:cNvSpPr/>
          <p:nvPr/>
        </p:nvSpPr>
        <p:spPr>
          <a:xfrm>
            <a:off x="182520" y="1335240"/>
            <a:ext cx="81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ултано таложење и таложење с колектором не спадају у копреципитациј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1"/>
          <p:cNvSpPr/>
          <p:nvPr/>
        </p:nvSpPr>
        <p:spPr>
          <a:xfrm>
            <a:off x="182520" y="2049480"/>
            <a:ext cx="8553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 се за таложење јона који је у раствору присутан у ниским концентрацијама, тако да се додатком таложног реагенса не може исталожити (није достигнута вредност производа растворљивост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екад је могуће тај јон квантитативно уклонити из раствора и сакупити на неком другом талогу који се у раствору налази у макроколичи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г који се користи за овакво „повлачење” или „сакупљање” назива се колектор или носач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вајање трагова олова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з урина на калцијум-фосфат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2"/>
          <p:cNvSpPr/>
          <p:nvPr/>
        </p:nvSpPr>
        <p:spPr>
          <a:xfrm>
            <a:off x="1911240" y="115884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ложење с колектором (носаче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1"/>
          <p:cNvSpPr/>
          <p:nvPr/>
        </p:nvSpPr>
        <p:spPr>
          <a:xfrm>
            <a:off x="182520" y="1827360"/>
            <a:ext cx="652464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ђење (филтрација) је операција одвајања талога од раствора помоћу средстава за цеђењ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средстава за филтрацију зависи од особина талога, величине честица и од тога да ли талог треба жарити или само суши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"/>
          <p:cNvSpPr/>
          <p:nvPr/>
        </p:nvSpPr>
        <p:spPr>
          <a:xfrm>
            <a:off x="2623680" y="1090440"/>
            <a:ext cx="358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илтрација - цеђ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8"/>
          <p:cNvSpPr/>
          <p:nvPr/>
        </p:nvSpPr>
        <p:spPr>
          <a:xfrm>
            <a:off x="182520" y="3789360"/>
            <a:ext cx="619128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ава за филтрациј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тер папир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тативни и квантитативни различитог степена пороз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нчићи за цеђење - порозно дно (стаклени, порц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нски, гуч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ифугирањ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3" name="Picture 2" descr=""/>
          <p:cNvPicPr/>
          <p:nvPr/>
        </p:nvPicPr>
        <p:blipFill>
          <a:blip r:embed="rId1"/>
          <a:stretch/>
        </p:blipFill>
        <p:spPr>
          <a:xfrm>
            <a:off x="7184880" y="1628640"/>
            <a:ext cx="1708200" cy="213516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3" descr=""/>
          <p:cNvPicPr/>
          <p:nvPr/>
        </p:nvPicPr>
        <p:blipFill>
          <a:blip r:embed="rId2"/>
          <a:stretch/>
        </p:blipFill>
        <p:spPr>
          <a:xfrm>
            <a:off x="7451640" y="4338720"/>
            <a:ext cx="113508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1"/>
          <p:cNvSpPr/>
          <p:nvPr/>
        </p:nvSpPr>
        <p:spPr>
          <a:xfrm>
            <a:off x="182520" y="1684440"/>
            <a:ext cx="856764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цеђења талог се испира како би се непожељне супстанце уклониле што је могуће потпуније – могу да се уклоне само површинске нечистоћ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испирање се корис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(уколико се талог не раствара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 који садржи малу количину таложног реагенса (дејство заједничког јона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годни и лако испарљиви електролит (спречава пептизацију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2"/>
          <p:cNvSpPr/>
          <p:nvPr/>
        </p:nvSpPr>
        <p:spPr>
          <a:xfrm>
            <a:off x="3085200" y="1122480"/>
            <a:ext cx="29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ирање тал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2"/>
          <p:cNvSpPr/>
          <p:nvPr/>
        </p:nvSpPr>
        <p:spPr>
          <a:xfrm>
            <a:off x="182520" y="4773600"/>
            <a:ext cx="853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њује се принцип екстракције: испирање више пута малом запремин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1"/>
          <p:cNvSpPr/>
          <p:nvPr/>
        </p:nvSpPr>
        <p:spPr>
          <a:xfrm>
            <a:off x="182520" y="5557680"/>
            <a:ext cx="864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 додавања нове запремине течности за испирање, талог треба да се остави да се оцеди – изузетак су талози који се могу на ваздуху оксидовати, као и желатинозни талоз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1"/>
          <p:cNvSpPr/>
          <p:nvPr/>
        </p:nvSpPr>
        <p:spPr>
          <a:xfrm>
            <a:off x="182520" y="1711440"/>
            <a:ext cx="864072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цеђења и испирања, талог треба да се доведе до константног састава, пре него што се изврши мерењ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талога се загревањем уклањ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арљиве нечистоћ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о се талог преводи у неки други облик погоднији за мерењ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2"/>
          <p:cNvSpPr/>
          <p:nvPr/>
        </p:nvSpPr>
        <p:spPr>
          <a:xfrm>
            <a:off x="2558880" y="1090440"/>
            <a:ext cx="42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ушење и жарење тал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4"/>
          <p:cNvSpPr/>
          <p:nvPr/>
        </p:nvSpPr>
        <p:spPr>
          <a:xfrm>
            <a:off x="2490480" y="4054320"/>
            <a:ext cx="351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рмогравиметријска кри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Group 7"/>
          <p:cNvGrpSpPr/>
          <p:nvPr/>
        </p:nvGrpSpPr>
        <p:grpSpPr>
          <a:xfrm>
            <a:off x="2308320" y="4508640"/>
            <a:ext cx="4064040" cy="2220840"/>
            <a:chOff x="2308320" y="4508640"/>
            <a:chExt cx="4064040" cy="2220840"/>
          </a:xfrm>
        </p:grpSpPr>
        <p:sp>
          <p:nvSpPr>
            <p:cNvPr id="923" name="Rectangle 5"/>
            <p:cNvSpPr/>
            <p:nvPr/>
          </p:nvSpPr>
          <p:spPr>
            <a:xfrm>
              <a:off x="2308320" y="4923000"/>
              <a:ext cx="10803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аса (g)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4" name="Picture 2" descr=""/>
            <p:cNvPicPr/>
            <p:nvPr/>
          </p:nvPicPr>
          <p:blipFill>
            <a:blip r:embed="rId1"/>
            <a:srcRect l="1352" t="0" r="0" b="0"/>
            <a:stretch/>
          </p:blipFill>
          <p:spPr>
            <a:xfrm>
              <a:off x="3073680" y="4508640"/>
              <a:ext cx="3298680" cy="2220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1"/>
          <p:cNvSpPr/>
          <p:nvPr/>
        </p:nvSpPr>
        <p:spPr>
          <a:xfrm>
            <a:off x="2398680" y="1096920"/>
            <a:ext cx="481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да у чврстим супстанц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4"/>
          <p:cNvSpPr/>
          <p:nvPr/>
        </p:nvSpPr>
        <p:spPr>
          <a:xfrm>
            <a:off x="182520" y="1687680"/>
            <a:ext cx="889308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итна во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ода која чини део хемијског састава супстанце и присутна је у стехиометријском однос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истална во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ке супстанце кристалишу као хидрати, стабилни на ваздуху при одређеној температури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ституциона во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појављује се у хемијској формули, већ настаје као производ разградње супстанце при повишеној температури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(OH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CaO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5"/>
          <p:cNvSpPr/>
          <p:nvPr/>
        </p:nvSpPr>
        <p:spPr>
          <a:xfrm>
            <a:off x="182520" y="4114800"/>
            <a:ext cx="8642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битна во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е представља део хемијског састава супстанце и није присутна у стехиометријским пропорција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дсорбована вода  –  хигроскопна во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анак мономолекулски слој на површини чврсте супстанц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рбована во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личина воде у унутрашњим пукотинама и капиларама, (силика-гел, скроб, целулоза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клудована во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да „ухваћена” унутар кристалне структуре за време настајања крист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TextBox 10"/>
          <p:cNvSpPr/>
          <p:nvPr/>
        </p:nvSpPr>
        <p:spPr>
          <a:xfrm>
            <a:off x="182520" y="1622520"/>
            <a:ext cx="887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гроскопност је свосјтво супстанце да из околине упија и везује вод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 својство супстанци може да доведе до потешкоћа у раду са њима (нетачно мерење), али се неке од ових супстанци могу користити и  као средства за сушењ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ва средства се примењују у ексикаторима у којима се чувају сушене или жарене супстанце током хлађењ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1"/>
          <p:cNvSpPr/>
          <p:nvPr/>
        </p:nvSpPr>
        <p:spPr>
          <a:xfrm>
            <a:off x="182520" y="3724200"/>
            <a:ext cx="484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ативна ефикасност неких средстав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ушењ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2"/>
          <p:cNvSpPr/>
          <p:nvPr/>
        </p:nvSpPr>
        <p:spPr>
          <a:xfrm>
            <a:off x="1367280" y="1006560"/>
            <a:ext cx="614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игроскопност и средства за суш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3"/>
          <p:cNvSpPr/>
          <p:nvPr/>
        </p:nvSpPr>
        <p:spPr>
          <a:xfrm>
            <a:off x="182520" y="4487760"/>
            <a:ext cx="3960720" cy="23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(Cl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 капаци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O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ен капаци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O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ен капаци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нх.) - умерен капацит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и капацит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и капацит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ika-gel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и капаци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2" name="Picture 3" descr=""/>
          <p:cNvPicPr/>
          <p:nvPr/>
        </p:nvPicPr>
        <p:blipFill>
          <a:blip r:embed="rId1"/>
          <a:stretch/>
        </p:blipFill>
        <p:spPr>
          <a:xfrm>
            <a:off x="7221600" y="5200560"/>
            <a:ext cx="1106280" cy="995400"/>
          </a:xfrm>
          <a:prstGeom prst="rect">
            <a:avLst/>
          </a:prstGeom>
          <a:ln w="0">
            <a:noFill/>
          </a:ln>
        </p:spPr>
      </p:pic>
      <p:sp>
        <p:nvSpPr>
          <p:cNvPr id="933" name="Rectangle 7"/>
          <p:cNvSpPr/>
          <p:nvPr/>
        </p:nvSpPr>
        <p:spPr>
          <a:xfrm>
            <a:off x="7093080" y="6346800"/>
            <a:ext cx="143964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нх.)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8"/>
          <p:cNvSpPr/>
          <p:nvPr/>
        </p:nvSpPr>
        <p:spPr>
          <a:xfrm>
            <a:off x="5456160" y="6348240"/>
            <a:ext cx="63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5" name="Group 11"/>
          <p:cNvGrpSpPr/>
          <p:nvPr/>
        </p:nvGrpSpPr>
        <p:grpSpPr>
          <a:xfrm>
            <a:off x="5170320" y="5013360"/>
            <a:ext cx="1202040" cy="1295280"/>
            <a:chOff x="5170320" y="5013360"/>
            <a:chExt cx="1202040" cy="1295280"/>
          </a:xfrm>
        </p:grpSpPr>
        <p:pic>
          <p:nvPicPr>
            <p:cNvPr id="936" name="Picture 2" descr=""/>
            <p:cNvPicPr/>
            <p:nvPr/>
          </p:nvPicPr>
          <p:blipFill>
            <a:blip r:embed="rId2"/>
            <a:stretch/>
          </p:blipFill>
          <p:spPr>
            <a:xfrm>
              <a:off x="5170320" y="5013360"/>
              <a:ext cx="1202040" cy="11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7" name="Curved Up Arrow 9"/>
            <p:cNvSpPr/>
            <p:nvPr/>
          </p:nvSpPr>
          <p:spPr>
            <a:xfrm>
              <a:off x="5576760" y="6151680"/>
              <a:ext cx="333360" cy="156960"/>
            </a:xfrm>
            <a:custGeom>
              <a:avLst/>
              <a:gdLst>
                <a:gd name="textAreaLeft" fmla="*/ 68400 w 333360"/>
                <a:gd name="textAreaRight" fmla="*/ 245160 w 333360"/>
                <a:gd name="textAreaTop" fmla="*/ 20880 h 156960"/>
                <a:gd name="textAreaBottom" fmla="*/ 13608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890" hR="21600" stAng="10800000" swAng="-5400000"/>
                  <a:lnTo>
                    <a:pt x="11437" y="21600"/>
                  </a:lnTo>
                  <a:arcTo wR="8890" hR="21600" stAng="5400000" swAng="-3473799"/>
                  <a:lnTo>
                    <a:pt x="21318" y="5400"/>
                  </a:lnTo>
                  <a:lnTo>
                    <a:pt x="19053" y="0"/>
                  </a:lnTo>
                  <a:lnTo>
                    <a:pt x="16223" y="5400"/>
                  </a:lnTo>
                  <a:lnTo>
                    <a:pt x="17497" y="5400"/>
                  </a:lnTo>
                  <a:arcTo wR="8890" hR="21600" stAng="1926201" swAng="3269245"/>
                  <a:lnTo>
                    <a:pt x="10163" y="21377"/>
                  </a:lnTo>
                  <a:arcTo wR="8890" hR="21600" stAng="5604554" swAng="5195446"/>
                  <a:close/>
                </a:path>
                <a:path fill="darkenLess" w="21600" h="21600">
                  <a:moveTo>
                    <a:pt x="0" y="0"/>
                  </a:moveTo>
                  <a:arcTo wR="8890" hR="21600" stAng="10800000" swAng="-5400000"/>
                  <a:lnTo>
                    <a:pt x="11437" y="21600"/>
                  </a:lnTo>
                  <a:arcTo wR="8890" hR="21600" stAng="5400000" swAng="204554"/>
                  <a:lnTo>
                    <a:pt x="10163" y="21377"/>
                  </a:lnTo>
                  <a:arcTo wR="8890" hR="21600" stAng="5604554" swAng="5195446"/>
                  <a:close/>
                </a:path>
              </a:pathLst>
            </a:cu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Group 14"/>
          <p:cNvGrpSpPr/>
          <p:nvPr/>
        </p:nvGrpSpPr>
        <p:grpSpPr>
          <a:xfrm>
            <a:off x="5651640" y="3651120"/>
            <a:ext cx="2141280" cy="1217880"/>
            <a:chOff x="5651640" y="3651120"/>
            <a:chExt cx="2141280" cy="1217880"/>
          </a:xfrm>
        </p:grpSpPr>
        <p:pic>
          <p:nvPicPr>
            <p:cNvPr id="939" name="Picture 5" descr="C:\Users\Maca\Desktop\Untitled11.png"/>
            <p:cNvPicPr/>
            <p:nvPr/>
          </p:nvPicPr>
          <p:blipFill>
            <a:blip r:embed="rId3"/>
            <a:stretch/>
          </p:blipFill>
          <p:spPr>
            <a:xfrm>
              <a:off x="5651640" y="3666240"/>
              <a:ext cx="1949760" cy="120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0" name="TextBox 13"/>
            <p:cNvSpPr/>
            <p:nvPr/>
          </p:nvSpPr>
          <p:spPr>
            <a:xfrm>
              <a:off x="6712560" y="3651120"/>
              <a:ext cx="10803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ксикатор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1"/>
          <p:cNvSpPr/>
          <p:nvPr/>
        </p:nvSpPr>
        <p:spPr>
          <a:xfrm>
            <a:off x="182520" y="1268280"/>
            <a:ext cx="896148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ак гравиметријске анализ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састоји из следећих фаз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231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ожење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231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рење талога, најчешће на повишеној температури (дигестија)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231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ђење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231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њање нечистоћа: испирањем или поновним таложењем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вођење талога у облик чија се маса мери (термичка обрад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га)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шење или жарење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ење масе талог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ачунавање резултат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8"/>
          <p:cNvSpPr/>
          <p:nvPr/>
        </p:nvSpPr>
        <p:spPr>
          <a:xfrm>
            <a:off x="2021760" y="4206960"/>
            <a:ext cx="475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гански таложни реаген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Box 9"/>
          <p:cNvSpPr/>
          <p:nvPr/>
        </p:nvSpPr>
        <p:spPr>
          <a:xfrm>
            <a:off x="182520" y="4992840"/>
            <a:ext cx="889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о се користе за гравиметријско одређивање неорганских супстанц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неорганским јонима дај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лабо растворне соли јонског карактер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лабо растворне хелате (много већи значај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8"/>
          <p:cNvSpPr/>
          <p:nvPr/>
        </p:nvSpPr>
        <p:spPr>
          <a:xfrm>
            <a:off x="2153160" y="1238400"/>
            <a:ext cx="508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органски таложни реаген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Box 12"/>
          <p:cNvSpPr/>
          <p:nvPr/>
        </p:nvSpPr>
        <p:spPr>
          <a:xfrm>
            <a:off x="182520" y="1900080"/>
            <a:ext cx="88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ргански таложни реагенси доводе до грађења слабо растворних соли или хидрокси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ско су селективни, па је често пре њихове примене за таложење неког јона потребно одвојити већи део присутних елемена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 се уклањају са талога и ретко изазивају потешкоће при одређивању других супстанци у филтрат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1"/>
          <p:cNvSpPr/>
          <p:nvPr/>
        </p:nvSpPr>
        <p:spPr>
          <a:xfrm>
            <a:off x="182520" y="1811160"/>
            <a:ext cx="8353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је селективан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 слабо растворне хелате, MLn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есна селективност се постиже контролисањем pH средине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 селективности се најчешће користе маскирајући реагенси (EDTA, C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3"/>
          <p:cNvSpPr/>
          <p:nvPr/>
        </p:nvSpPr>
        <p:spPr>
          <a:xfrm>
            <a:off x="1715040" y="512604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ксихино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5"/>
          <p:cNvSpPr/>
          <p:nvPr/>
        </p:nvSpPr>
        <p:spPr>
          <a:xfrm>
            <a:off x="182520" y="6043680"/>
            <a:ext cx="576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дређивање: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0" lang="it-IT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меше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</a:t>
            </a:r>
            <a:r>
              <a:rPr b="0" lang="it-IT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</a:t>
            </a:r>
            <a:r>
              <a:rPr b="0" lang="it-IT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М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it-IT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8" name="Object 2"/>
          <p:cNvGraphicFramePr/>
          <p:nvPr/>
        </p:nvGraphicFramePr>
        <p:xfrm>
          <a:off x="2087640" y="3903840"/>
          <a:ext cx="1374840" cy="114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7640" y="3903840"/>
                    <a:ext cx="1374840" cy="114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0" name="Object 3"/>
          <p:cNvGraphicFramePr/>
          <p:nvPr/>
        </p:nvGraphicFramePr>
        <p:xfrm>
          <a:off x="4524480" y="3789360"/>
          <a:ext cx="1374840" cy="13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24480" y="3789360"/>
                    <a:ext cx="137484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2" name="Right Arrow 8"/>
          <p:cNvSpPr/>
          <p:nvPr/>
        </p:nvSpPr>
        <p:spPr>
          <a:xfrm>
            <a:off x="3808440" y="4443480"/>
            <a:ext cx="3603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3"/>
          <p:cNvSpPr/>
          <p:nvPr/>
        </p:nvSpPr>
        <p:spPr>
          <a:xfrm>
            <a:off x="4246560" y="5122800"/>
            <a:ext cx="21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латни комплек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јоном мет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2026440" y="1135080"/>
            <a:ext cx="51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ксин или </a:t>
            </a:r>
            <a:r>
              <a:rPr b="1" lang="pt-BR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-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идроксихино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1"/>
          <p:cNvSpPr/>
          <p:nvPr/>
        </p:nvSpPr>
        <p:spPr>
          <a:xfrm>
            <a:off x="2290680" y="1179360"/>
            <a:ext cx="44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MG - диметилглиокс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2"/>
          <p:cNvSpPr/>
          <p:nvPr/>
        </p:nvSpPr>
        <p:spPr>
          <a:xfrm>
            <a:off x="234000" y="5353200"/>
            <a:ext cx="840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мплекс црвене боје, таложи се из слабо киселих, неутрални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лабо амонијачних  раствор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мплекс жуте боје, таложи се из киселих раствор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7" name="Object 2"/>
          <p:cNvGraphicFramePr/>
          <p:nvPr/>
        </p:nvGraphicFramePr>
        <p:xfrm>
          <a:off x="250920" y="3292560"/>
          <a:ext cx="8332560" cy="193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292560"/>
                    <a:ext cx="8332560" cy="19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9" name="TextBox 4"/>
          <p:cNvSpPr/>
          <p:nvPr/>
        </p:nvSpPr>
        <p:spPr>
          <a:xfrm>
            <a:off x="182520" y="1814400"/>
            <a:ext cx="889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а кристална супстанца, нерастворна у води и лако растворна у органским растварачи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ан је од најселективнијих таложних реагенаса, најчешће примењиван као таложни реагенс за Ni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Pd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1"/>
          <p:cNvSpPr/>
          <p:nvPr/>
        </p:nvSpPr>
        <p:spPr>
          <a:xfrm>
            <a:off x="182520" y="2349360"/>
            <a:ext cx="828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омпонента која се одређује квантитативно се издваја из узорка у облику лако испарљивог једињењ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2"/>
          <p:cNvSpPr/>
          <p:nvPr/>
        </p:nvSpPr>
        <p:spPr>
          <a:xfrm>
            <a:off x="1244520" y="1135080"/>
            <a:ext cx="66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авиметријска одређивања заснована на испарљи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3"/>
          <p:cNvSpPr/>
          <p:nvPr/>
        </p:nvSpPr>
        <p:spPr>
          <a:xfrm>
            <a:off x="182520" y="3481560"/>
            <a:ext cx="864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 се може изводи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ректн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ењем масе испарене супстанце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директн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ерењем масе остатка (мање погодно)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5"/>
          <p:cNvSpPr/>
          <p:nvPr/>
        </p:nvSpPr>
        <p:spPr>
          <a:xfrm>
            <a:off x="182520" y="499104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ма на бази испарљивости се може одређивати више супстанци, али се најчешће одређују вода и угљеник(IV)-окси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2"/>
          <p:cNvSpPr/>
          <p:nvPr/>
        </p:nvSpPr>
        <p:spPr>
          <a:xfrm>
            <a:off x="182520" y="4815000"/>
            <a:ext cx="82821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арљивост се користи и за уклањање неких супстанци из узорк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, амонијум-соли, силицијума у облику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F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7"/>
          <p:cNvSpPr/>
          <p:nvPr/>
        </p:nvSpPr>
        <p:spPr>
          <a:xfrm>
            <a:off x="182520" y="1868400"/>
            <a:ext cx="8340840" cy="29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д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 одређује директном методом тако што се испарена вода селективно сакупља на неком адсорбенсу специфичном за воду (Mg(Cl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гљеник(IV)-оксид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одређује директном методом са карбонатима. Карбонати се обично разлажу киселинама ослобађајући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и се загревањем лако уклања из узорка и селективно хвата на одговарајућем адсорбенсу (у натронском кречу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1"/>
          <p:cNvSpPr/>
          <p:nvPr/>
        </p:nvSpPr>
        <p:spPr>
          <a:xfrm>
            <a:off x="182520" y="1917720"/>
            <a:ext cx="802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периментално се мере две величине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а узорка узетог за анализу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а талога познатог хемијског састава добијеног анализ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2"/>
          <p:cNvSpPr/>
          <p:nvPr/>
        </p:nvSpPr>
        <p:spPr>
          <a:xfrm>
            <a:off x="2004840" y="120960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рачунавања у гравиметр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3"/>
          <p:cNvSpPr/>
          <p:nvPr/>
        </p:nvSpPr>
        <p:spPr>
          <a:xfrm>
            <a:off x="182520" y="3149640"/>
            <a:ext cx="756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ва се масени удео одређиване компонент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4"/>
          <p:cNvSpPr/>
          <p:nvPr/>
        </p:nvSpPr>
        <p:spPr>
          <a:xfrm>
            <a:off x="3165480" y="4073400"/>
            <a:ext cx="463068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а компоненте А у узор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узорк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а узорка који се анализи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6"/>
          <p:cNvSpPr/>
          <p:nvPr/>
        </p:nvSpPr>
        <p:spPr>
          <a:xfrm>
            <a:off x="182520" y="5235480"/>
            <a:ext cx="864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ки талог који се у гравиметријској анализи после сушења и жарења мери је врло ретко тражена компонента 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1" name="Object 3"/>
              <p:cNvSpPr txBox="1"/>
              <p:nvPr/>
            </p:nvSpPr>
            <p:spPr>
              <a:xfrm>
                <a:off x="914400" y="3952800"/>
                <a:ext cx="15033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zork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1"/>
          <p:cNvSpPr/>
          <p:nvPr/>
        </p:nvSpPr>
        <p:spPr>
          <a:xfrm>
            <a:off x="182520" y="1268280"/>
            <a:ext cx="86425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ени талог се стехиометријски може повезати са компонентом 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а мереног талога (мерни облик) се прерачунава у одговарајућу масу тражене компонент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рачунавање се врши помоћу гравиметријског факто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2"/>
          <p:cNvSpPr/>
          <p:nvPr/>
        </p:nvSpPr>
        <p:spPr>
          <a:xfrm>
            <a:off x="182520" y="299412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авиметријски фактор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који показује колика маса тражене супстанце одговара јединици масе мерене супстанц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1"/>
          <p:cNvSpPr/>
          <p:nvPr/>
        </p:nvSpPr>
        <p:spPr>
          <a:xfrm>
            <a:off x="182520" y="3944880"/>
            <a:ext cx="900108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ти израз који дефинише гравиметријски фактор за прерачунавање мас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масу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2"/>
          <p:cNvSpPr/>
          <p:nvPr/>
        </p:nvSpPr>
        <p:spPr>
          <a:xfrm>
            <a:off x="2438640" y="5029200"/>
            <a:ext cx="21265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Fe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→   2F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6" name="Object 3"/>
              <p:cNvSpPr txBox="1"/>
              <p:nvPr/>
            </p:nvSpPr>
            <p:spPr>
              <a:xfrm>
                <a:off x="914400" y="5589720"/>
                <a:ext cx="175572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7" name="Object 5"/>
              <p:cNvSpPr txBox="1"/>
              <p:nvPr/>
            </p:nvSpPr>
            <p:spPr>
              <a:xfrm>
                <a:off x="4114800" y="5589720"/>
                <a:ext cx="303516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99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8" name="Right Arrow 7"/>
          <p:cNvSpPr/>
          <p:nvPr/>
        </p:nvSpPr>
        <p:spPr>
          <a:xfrm>
            <a:off x="3132000" y="5950080"/>
            <a:ext cx="555840" cy="199800"/>
          </a:xfrm>
          <a:prstGeom prst="rightArrow">
            <a:avLst>
              <a:gd name="adj1" fmla="val 50000"/>
              <a:gd name="adj2" fmla="val 50076"/>
            </a:avLst>
          </a:prstGeom>
          <a:solidFill>
            <a:srgbClr val="77d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1"/>
          <p:cNvSpPr/>
          <p:nvPr/>
        </p:nvSpPr>
        <p:spPr>
          <a:xfrm>
            <a:off x="182520" y="1096920"/>
            <a:ext cx="890748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ти израз који дефинише гравиметријски фактор за прерачунавање мас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масу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3"/>
          <p:cNvSpPr/>
          <p:nvPr/>
        </p:nvSpPr>
        <p:spPr>
          <a:xfrm>
            <a:off x="2325600" y="2154240"/>
            <a:ext cx="2294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Fe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 2F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1" name="Object 3"/>
              <p:cNvSpPr txBox="1"/>
              <p:nvPr/>
            </p:nvSpPr>
            <p:spPr>
              <a:xfrm>
                <a:off x="1371600" y="2743200"/>
                <a:ext cx="461484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3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5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66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2" name="Rectangle 3"/>
          <p:cNvSpPr/>
          <p:nvPr/>
        </p:nvSpPr>
        <p:spPr>
          <a:xfrm>
            <a:off x="285840" y="4226040"/>
            <a:ext cx="1480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3"/>
          <p:cNvSpPr/>
          <p:nvPr/>
        </p:nvSpPr>
        <p:spPr>
          <a:xfrm>
            <a:off x="290880" y="4954680"/>
            <a:ext cx="1753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 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4" name="Object 5"/>
              <p:cNvSpPr txBox="1"/>
              <p:nvPr/>
            </p:nvSpPr>
            <p:spPr>
              <a:xfrm>
                <a:off x="2527200" y="4149720"/>
                <a:ext cx="1343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SO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Object 4"/>
              <p:cNvSpPr txBox="1"/>
              <p:nvPr/>
            </p:nvSpPr>
            <p:spPr>
              <a:xfrm>
                <a:off x="2508120" y="4834080"/>
                <a:ext cx="14144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SO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6" name="TextBox 8"/>
          <p:cNvSpPr/>
          <p:nvPr/>
        </p:nvSpPr>
        <p:spPr>
          <a:xfrm>
            <a:off x="182520" y="367200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и израчунавања гравиметријских факт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3"/>
          <p:cNvSpPr/>
          <p:nvPr/>
        </p:nvSpPr>
        <p:spPr>
          <a:xfrm>
            <a:off x="291960" y="5754600"/>
            <a:ext cx="183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 2F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3"/>
          <p:cNvSpPr/>
          <p:nvPr/>
        </p:nvSpPr>
        <p:spPr>
          <a:xfrm>
            <a:off x="4644000" y="4527720"/>
            <a:ext cx="2267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 2Mg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3"/>
          <p:cNvSpPr/>
          <p:nvPr/>
        </p:nvSpPr>
        <p:spPr>
          <a:xfrm>
            <a:off x="4626000" y="5613480"/>
            <a:ext cx="2266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bCr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 C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0" name="Object 5"/>
              <p:cNvSpPr txBox="1"/>
              <p:nvPr/>
            </p:nvSpPr>
            <p:spPr>
              <a:xfrm>
                <a:off x="2457360" y="5681520"/>
                <a:ext cx="149076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eO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1" name="Object 6"/>
              <p:cNvSpPr txBox="1"/>
              <p:nvPr/>
            </p:nvSpPr>
            <p:spPr>
              <a:xfrm>
                <a:off x="7183440" y="4408560"/>
                <a:ext cx="16351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gO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2" name="Object 7"/>
              <p:cNvSpPr txBox="1"/>
              <p:nvPr/>
            </p:nvSpPr>
            <p:spPr>
              <a:xfrm>
                <a:off x="7162920" y="5529240"/>
                <a:ext cx="16524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bCrO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2"/>
          <p:cNvSpPr/>
          <p:nvPr/>
        </p:nvSpPr>
        <p:spPr>
          <a:xfrm>
            <a:off x="182520" y="162864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вожђе се таложи у облику гвожђе(III)-хидроксида, а мери као гвожђе(III)-окси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3"/>
          <p:cNvSpPr/>
          <p:nvPr/>
        </p:nvSpPr>
        <p:spPr>
          <a:xfrm>
            <a:off x="1692360" y="2349360"/>
            <a:ext cx="591336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Cl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3NH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3H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1" lang="pt-BR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(OH)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↓</a:t>
            </a:r>
            <a:r>
              <a:rPr b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3NH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Box 5"/>
          <p:cNvSpPr/>
          <p:nvPr/>
        </p:nvSpPr>
        <p:spPr>
          <a:xfrm>
            <a:off x="2077920" y="10555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дређивање садржаја гвожђ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Box 7"/>
          <p:cNvSpPr/>
          <p:nvPr/>
        </p:nvSpPr>
        <p:spPr>
          <a:xfrm>
            <a:off x="182520" y="2800440"/>
            <a:ext cx="87138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е које се таложи нема тачно одређени стехиометријски састав и не одговара формули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(OH)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ећ је то хидратисани гвожђе(III)-оксид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;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= 30-4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12"/>
          <p:cNvSpPr/>
          <p:nvPr/>
        </p:nvSpPr>
        <p:spPr>
          <a:xfrm>
            <a:off x="182520" y="3875040"/>
            <a:ext cx="864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ог се добија у облику колоид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ј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гревањем у присуству електролита коагулише, често у желатинозну масу, а продужено загревање није препоручљиво, јер долази до разлагања агрегата и талог постаје слузав што отежава његово цеђе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14"/>
          <p:cNvSpPr/>
          <p:nvPr/>
        </p:nvSpPr>
        <p:spPr>
          <a:xfrm>
            <a:off x="182520" y="5224320"/>
            <a:ext cx="889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атисани гвожђе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оксид има велику склоност ка адсорпцији страних јона. Уколико се таложење изводи у базној средини, адсорбовани јони ће бит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и, због чега ће се на талогу копреципитовати катјони из раствор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јумове соли испаравају и распадају се у току жаре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2"/>
          <p:cNvSpPr/>
          <p:nvPr/>
        </p:nvSpPr>
        <p:spPr>
          <a:xfrm>
            <a:off x="182520" y="2522520"/>
            <a:ext cx="8724960" cy="27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атисани гвожђе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оксид прелази загревањем на 800-1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гвожђе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окси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рење треба изводити у оксидационој средини, нарочито за време сагоревања цедила, јер у противном долази до редукције талога у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у извесним случајевима и до метала, при чему се боја талога ме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ција се спречава сагоревањем угљеника на малом пламену (благо загревање) обезбеђујући све време довољан приступ ваздуха и искључујући редукционе гасове из пламе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0" name="Object 5"/>
              <p:cNvSpPr txBox="1"/>
              <p:nvPr/>
            </p:nvSpPr>
            <p:spPr>
              <a:xfrm>
                <a:off x="1371600" y="1751040"/>
                <a:ext cx="251928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99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01" name="Group 4"/>
          <p:cNvGrpSpPr/>
          <p:nvPr/>
        </p:nvGrpSpPr>
        <p:grpSpPr>
          <a:xfrm>
            <a:off x="1423800" y="1120680"/>
            <a:ext cx="4312080" cy="580320"/>
            <a:chOff x="1423800" y="1120680"/>
            <a:chExt cx="4312080" cy="580320"/>
          </a:xfrm>
        </p:grpSpPr>
        <p:sp>
          <p:nvSpPr>
            <p:cNvPr id="1002" name="Rectangle 5"/>
            <p:cNvSpPr/>
            <p:nvPr/>
          </p:nvSpPr>
          <p:spPr>
            <a:xfrm>
              <a:off x="1423800" y="1225800"/>
              <a:ext cx="431208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Fe(OH)</a:t>
              </a:r>
              <a:r>
                <a:rPr b="1" lang="pt-BR" sz="2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Fe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+  3H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TextBox 6"/>
            <p:cNvSpPr/>
            <p:nvPr/>
          </p:nvSpPr>
          <p:spPr>
            <a:xfrm>
              <a:off x="2667600" y="1120680"/>
              <a:ext cx="9057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00 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4" name="Straight Arrow Connector 7"/>
            <p:cNvCxnSpPr/>
            <p:nvPr/>
          </p:nvCxnSpPr>
          <p:spPr>
            <a:xfrm>
              <a:off x="2711520" y="1458360"/>
              <a:ext cx="721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05" name="Rectangle 8"/>
          <p:cNvSpPr/>
          <p:nvPr/>
        </p:nvSpPr>
        <p:spPr>
          <a:xfrm>
            <a:off x="184320" y="5288040"/>
            <a:ext cx="864072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шке могу бити последиц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потпуног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(OH)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ји заостаје на зидовима чаш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дукције F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иже оксиде гвожђа, у току жарењ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тављања алкалног раствора, који садржи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(OH)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 чаши преко ноћ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1"/>
          <p:cNvSpPr/>
          <p:nvPr/>
        </p:nvSpPr>
        <p:spPr>
          <a:xfrm>
            <a:off x="182520" y="1646280"/>
            <a:ext cx="864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виметрија, као аналитичка метода одређивања, се примењује када се врши анализа малог броја узорака и када је потребна веома висока тачност одређивања траженог парамет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2"/>
          <p:cNvSpPr/>
          <p:nvPr/>
        </p:nvSpPr>
        <p:spPr>
          <a:xfrm>
            <a:off x="182520" y="3017880"/>
            <a:ext cx="7561440" cy="21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спешно гравиметријско одређивање потребно је д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акција таложења буде квантитативн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е издвојени талог лако цед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двојени талог буде довољно чис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рени облик талога има познати састав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рени облик талога није хигроскопан (пожељно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1"/>
          <p:cNvSpPr/>
          <p:nvPr/>
        </p:nvSpPr>
        <p:spPr>
          <a:xfrm>
            <a:off x="182520" y="2178000"/>
            <a:ext cx="864252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анализу двокомпонентне смеше понекад се примењује 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директна гравиметријска анали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вом поступку се изводе два експериментална одређивања, једно је обично одређивање масе двокомпонентне смеш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љају се две једначине са две непознат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е је одредити 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мпоненти неког узорка, помоћу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зависних одређивања 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мултаних једначина, али се ретко примењује за одређивање више од две компонент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чност и прецизност је много мања него код директног одређивањ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2"/>
          <p:cNvSpPr/>
          <p:nvPr/>
        </p:nvSpPr>
        <p:spPr>
          <a:xfrm>
            <a:off x="1219320" y="124776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директна гравиметријска ан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1"/>
          <p:cNvSpPr/>
          <p:nvPr/>
        </p:nvSpPr>
        <p:spPr>
          <a:xfrm>
            <a:off x="182520" y="1135080"/>
            <a:ext cx="889308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ом узорка од 2,5000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ког кречњака добијено је 0,2500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меш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l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меша алкалних хлорида је затим таложена сребро-нитратом, при чему је добијено 0,5000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Cl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зрачунати масене удел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и K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у кречња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Box 3"/>
          <p:cNvSpPr/>
          <p:nvPr/>
        </p:nvSpPr>
        <p:spPr>
          <a:xfrm>
            <a:off x="182520" y="3068640"/>
            <a:ext cx="828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је:  x = маса NaCl у узор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маса KCl у узор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а једначина са две непознате је:     x + y =0,2500 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Box 4"/>
          <p:cNvSpPr/>
          <p:nvPr/>
        </p:nvSpPr>
        <p:spPr>
          <a:xfrm>
            <a:off x="182520" y="4389480"/>
            <a:ext cx="828216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друге једначине се долази полазећи од однос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(AgCl)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(AgCl)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Cl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000 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жено преко гравиметријских фактора то ј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1" name="Object 5"/>
          <p:cNvGraphicFramePr/>
          <p:nvPr/>
        </p:nvGraphicFramePr>
        <p:xfrm>
          <a:off x="1371600" y="5718240"/>
          <a:ext cx="4781520" cy="8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5718240"/>
                    <a:ext cx="478152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TextBox 1"/>
          <p:cNvSpPr/>
          <p:nvPr/>
        </p:nvSpPr>
        <p:spPr>
          <a:xfrm>
            <a:off x="182520" y="1182600"/>
            <a:ext cx="862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рштавањем нумеричких вредности за ове факторе добија се друга једначин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4" name="Object 3"/>
          <p:cNvGraphicFramePr/>
          <p:nvPr/>
        </p:nvGraphicFramePr>
        <p:xfrm>
          <a:off x="1916280" y="1814400"/>
          <a:ext cx="4279680" cy="4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6280" y="1814400"/>
                    <a:ext cx="427968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6" name="TextBox 4"/>
          <p:cNvSpPr/>
          <p:nvPr/>
        </p:nvSpPr>
        <p:spPr>
          <a:xfrm>
            <a:off x="182520" y="2349360"/>
            <a:ext cx="684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вањем система ове две једначине добија с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7" name="Object 4"/>
          <p:cNvGraphicFramePr/>
          <p:nvPr/>
        </p:nvGraphicFramePr>
        <p:xfrm>
          <a:off x="1828800" y="2878200"/>
          <a:ext cx="170172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2878200"/>
                    <a:ext cx="17017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9" name="Object 5"/>
          <p:cNvGraphicFramePr/>
          <p:nvPr/>
        </p:nvGraphicFramePr>
        <p:xfrm>
          <a:off x="1828800" y="3262320"/>
          <a:ext cx="1627200" cy="39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3262320"/>
                    <a:ext cx="162720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1" name="TextBox 8"/>
          <p:cNvSpPr/>
          <p:nvPr/>
        </p:nvSpPr>
        <p:spPr>
          <a:xfrm>
            <a:off x="3749760" y="285768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а NaCl у узор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а KCl у узор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Box 9"/>
          <p:cNvSpPr/>
          <p:nvPr/>
        </p:nvSpPr>
        <p:spPr>
          <a:xfrm>
            <a:off x="182520" y="3789360"/>
            <a:ext cx="5041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ени удео N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и 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ј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3" name="Object 6"/>
          <p:cNvGraphicFramePr/>
          <p:nvPr/>
        </p:nvGraphicFramePr>
        <p:xfrm>
          <a:off x="182520" y="4303800"/>
          <a:ext cx="7583400" cy="1117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2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2520" y="4303800"/>
                    <a:ext cx="758340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5" name="Object 7"/>
          <p:cNvGraphicFramePr/>
          <p:nvPr/>
        </p:nvGraphicFramePr>
        <p:xfrm>
          <a:off x="182520" y="5551560"/>
          <a:ext cx="7356600" cy="11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26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2520" y="5551560"/>
                    <a:ext cx="735660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1"/>
          <p:cNvSpPr/>
          <p:nvPr/>
        </p:nvSpPr>
        <p:spPr>
          <a:xfrm>
            <a:off x="182520" y="1649520"/>
            <a:ext cx="889164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величине честица талога зависи могућност цеђења и чистоћа талог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зи са крупним честицама се лакше цед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 честица талога је праћено смањењем његовог онечишћењ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еличини честица талози се деле н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идне (1 – 100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m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сталне (десети делов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2"/>
          <p:cNvSpPr/>
          <p:nvPr/>
        </p:nvSpPr>
        <p:spPr>
          <a:xfrm>
            <a:off x="5130720" y="3706920"/>
            <a:ext cx="3252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о се слежу и лако цед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2041560" y="110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ложење и величина чес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4" name="Straight Arrow Connector 5"/>
          <p:cNvCxnSpPr/>
          <p:nvPr/>
        </p:nvCxnSpPr>
        <p:spPr>
          <a:xfrm>
            <a:off x="4143240" y="3941280"/>
            <a:ext cx="72144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765" name="Rectangle 1"/>
          <p:cNvSpPr/>
          <p:nvPr/>
        </p:nvSpPr>
        <p:spPr>
          <a:xfrm>
            <a:off x="182520" y="4273560"/>
            <a:ext cx="8893080" cy="11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ице већине талога, па и оних колоидних имају кристалну структур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ависности од услова таложења често се једно исто једињење може исталожити и у кристалном и у колоидном обли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4"/>
          <p:cNvSpPr/>
          <p:nvPr/>
        </p:nvSpPr>
        <p:spPr>
          <a:xfrm>
            <a:off x="457200" y="5838840"/>
            <a:ext cx="1079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7" name="Straight Arrow Connector 8"/>
          <p:cNvCxnSpPr/>
          <p:nvPr/>
        </p:nvCxnSpPr>
        <p:spPr>
          <a:xfrm flipV="1">
            <a:off x="1542960" y="5715720"/>
            <a:ext cx="1440360" cy="36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768" name="Straight Arrow Connector 9"/>
          <p:cNvCxnSpPr/>
          <p:nvPr/>
        </p:nvCxnSpPr>
        <p:spPr>
          <a:xfrm>
            <a:off x="1542960" y="6076440"/>
            <a:ext cx="1440360" cy="36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769" name="Rectangle 2"/>
          <p:cNvSpPr/>
          <p:nvPr/>
        </p:nvSpPr>
        <p:spPr>
          <a:xfrm>
            <a:off x="3032280" y="5468760"/>
            <a:ext cx="612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овани раствори → колоидни тало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3"/>
          <p:cNvSpPr/>
          <p:nvPr/>
        </p:nvSpPr>
        <p:spPr>
          <a:xfrm>
            <a:off x="3147480" y="6135840"/>
            <a:ext cx="507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лажени раствори → кристални тало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1"/>
          <p:cNvSpPr/>
          <p:nvPr/>
        </p:nvSpPr>
        <p:spPr>
          <a:xfrm>
            <a:off x="473040" y="103176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личина честица и релативна презасићеност раств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2"/>
          <p:cNvSpPr/>
          <p:nvPr/>
        </p:nvSpPr>
        <p:spPr>
          <a:xfrm>
            <a:off x="182520" y="2886120"/>
            <a:ext cx="7993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– концентрација растворене супстанце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/L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у тренутку када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иње таложењ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нцентрација растворене супстанце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/L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у засићеном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у – количинска растворљиво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3"/>
          <p:cNvSpPr/>
          <p:nvPr/>
        </p:nvSpPr>
        <p:spPr>
          <a:xfrm>
            <a:off x="482400" y="2131920"/>
            <a:ext cx="428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ативна презасићеност раство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4" name="Object 3"/>
              <p:cNvSpPr txBox="1"/>
              <p:nvPr/>
            </p:nvSpPr>
            <p:spPr>
              <a:xfrm>
                <a:off x="4664160" y="1989000"/>
                <a:ext cx="105228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5" name="Rectangle 1"/>
          <p:cNvSpPr/>
          <p:nvPr/>
        </p:nvSpPr>
        <p:spPr>
          <a:xfrm>
            <a:off x="182520" y="4424400"/>
            <a:ext cx="875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ак таложног реагенса прво доводи до тренутне презасићености раствора: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&gt; 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2"/>
          <p:cNvSpPr/>
          <p:nvPr/>
        </p:nvSpPr>
        <p:spPr>
          <a:xfrm>
            <a:off x="182520" y="5162400"/>
            <a:ext cx="871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ње презасићености није стабилно, вишак растворене супстанце се таложи и систем долази у стање равнотеже: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3"/>
          <p:cNvSpPr/>
          <p:nvPr/>
        </p:nvSpPr>
        <p:spPr>
          <a:xfrm>
            <a:off x="182520" y="6070680"/>
            <a:ext cx="756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честица је обрнуто пропорционална презасићењ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1"/>
          <p:cNvSpPr/>
          <p:nvPr/>
        </p:nvSpPr>
        <p:spPr>
          <a:xfrm>
            <a:off x="182520" y="2238480"/>
            <a:ext cx="8715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двајању чврсте фазе из раствора одвијају се два процеса, при чему брзине оба процеса одређују величину честиц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уклеација (стварање ,‚клица”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т криста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2"/>
          <p:cNvSpPr/>
          <p:nvPr/>
        </p:nvSpPr>
        <p:spPr>
          <a:xfrm>
            <a:off x="2568240" y="1279440"/>
            <a:ext cx="369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ханизам талож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2" descr=""/>
          <p:cNvPicPr/>
          <p:nvPr/>
        </p:nvPicPr>
        <p:blipFill>
          <a:blip r:embed="rId1"/>
          <a:stretch/>
        </p:blipFill>
        <p:spPr>
          <a:xfrm>
            <a:off x="1371600" y="4022640"/>
            <a:ext cx="6168960" cy="1559160"/>
          </a:xfrm>
          <a:prstGeom prst="rect">
            <a:avLst/>
          </a:prstGeom>
          <a:ln w="0">
            <a:noFill/>
          </a:ln>
        </p:spPr>
      </p:pic>
      <p:sp>
        <p:nvSpPr>
          <p:cNvPr id="781" name="Rectangle 5"/>
          <p:cNvSpPr/>
          <p:nvPr/>
        </p:nvSpPr>
        <p:spPr>
          <a:xfrm>
            <a:off x="3267000" y="4272120"/>
            <a:ext cx="155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чест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1"/>
          <p:cNvSpPr/>
          <p:nvPr/>
        </p:nvSpPr>
        <p:spPr>
          <a:xfrm>
            <a:off x="182520" y="3657600"/>
            <a:ext cx="4749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етероген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уклеација– индукована  (прашина, нерастворне нечистоће, површина суда) доводи до почетног удруживања јо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Group 11"/>
          <p:cNvGrpSpPr/>
          <p:nvPr/>
        </p:nvGrpSpPr>
        <p:grpSpPr>
          <a:xfrm>
            <a:off x="5294880" y="3108240"/>
            <a:ext cx="3202920" cy="3454560"/>
            <a:chOff x="5294880" y="3108240"/>
            <a:chExt cx="3202920" cy="3454560"/>
          </a:xfrm>
        </p:grpSpPr>
        <p:pic>
          <p:nvPicPr>
            <p:cNvPr id="784" name="Picture 4" descr=""/>
            <p:cNvPicPr/>
            <p:nvPr/>
          </p:nvPicPr>
          <p:blipFill>
            <a:blip r:embed="rId1"/>
            <a:stretch/>
          </p:blipFill>
          <p:spPr>
            <a:xfrm>
              <a:off x="6050520" y="3108240"/>
              <a:ext cx="1514160" cy="14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5" name="Picture 5" descr="C:\Users\Maca\Desktop\Untitled8.png"/>
            <p:cNvPicPr/>
            <p:nvPr/>
          </p:nvPicPr>
          <p:blipFill>
            <a:blip r:embed="rId2"/>
            <a:stretch/>
          </p:blipFill>
          <p:spPr>
            <a:xfrm>
              <a:off x="6049800" y="5629320"/>
              <a:ext cx="1942920" cy="93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6" name="Picture 7" descr="C:\Users\Maca\Desktop\Untitled9.png"/>
            <p:cNvPicPr/>
            <p:nvPr/>
          </p:nvPicPr>
          <p:blipFill>
            <a:blip r:embed="rId3"/>
            <a:stretch/>
          </p:blipFill>
          <p:spPr>
            <a:xfrm rot="525000">
              <a:off x="6499800" y="4625640"/>
              <a:ext cx="111420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7" name="Rectangle 15"/>
            <p:cNvSpPr/>
            <p:nvPr/>
          </p:nvSpPr>
          <p:spPr>
            <a:xfrm>
              <a:off x="5294880" y="4895280"/>
              <a:ext cx="136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етероген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16"/>
            <p:cNvSpPr/>
            <p:nvPr/>
          </p:nvSpPr>
          <p:spPr>
            <a:xfrm>
              <a:off x="7309800" y="4888080"/>
              <a:ext cx="11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омогена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Rectangle 12"/>
          <p:cNvSpPr/>
          <p:nvPr/>
        </p:nvSpPr>
        <p:spPr>
          <a:xfrm>
            <a:off x="182520" y="1463760"/>
            <a:ext cx="856620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уклеациј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е би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моген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клеациј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понтана (случајна) орјентација јона или молекула; стварају се групе или асоцијације јона раствореног талога „ројеви”; када достигну критичну вредност настају клице или нуклеуси који могу даље да раст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10:47:46Z</dcterms:created>
  <dc:creator>Korisnik</dc:creator>
  <dc:description/>
  <dc:language>en-US</dc:language>
  <cp:lastModifiedBy>korisnik</cp:lastModifiedBy>
  <dcterms:modified xsi:type="dcterms:W3CDTF">2017-12-15T11:38:25Z</dcterms:modified>
  <cp:revision>531</cp:revision>
  <dc:subject/>
  <dc:title>Slide 1</dc:title>
</cp:coreProperties>
</file>